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A27-AA6C-467E-A597-5B163AD2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E87-FBED-4679-8ED2-D483A0A3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5F2-7E18-4ACF-B5D5-52014E31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44C-D303-431A-97EC-117AF858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DC83-ADFB-4A91-A000-D30F6428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F244-0886-4903-920A-7874FFD9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059D-8767-4DEC-A593-FA6AEE46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D6E0-6A0E-4478-BB9B-1C36F1F0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59A4-0E07-41E2-94D4-4EFAF38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77C0-9414-41F5-AC8A-3F9335C9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23B3-02AC-4F1E-A994-5A9886F7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7CD-8404-4FC9-B9EF-23A3373F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B79B-1DD2-4494-A8C5-2BCD19F0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D05F-3470-477D-B448-55FBFA79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3469-B0E8-4BDB-9353-CBE2FAE6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CD88-40DC-4944-B2FA-8A1BE859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8A33-B46C-4FF0-9A4F-4A928BF0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E1B-EB3E-4F91-BCDF-625D0E95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699-179E-447F-891A-A19A4B46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8B2-B0E5-4332-8ED7-89094D88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17C-E298-4A22-874C-B14AEB30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E21-0D37-4CD5-A766-66CEE863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7EB-1CE4-455C-A4DD-F56A1480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03B-34B2-4AFA-BF96-A883B5F3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217D-5194-4D87-AAA9-A2F97E6CAEC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3D81-FC6E-4D64-9173-922C585F46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Warm-up:  MSA Review Day 9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124080" y="2927520"/>
            <a:ext cx="55627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71800" y="4313160"/>
            <a:ext cx="1350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5755" y="12055"/>
                </a:moveTo>
                <a:cubicBezTo>
                  <a:pt x="5861" y="12018"/>
                  <a:pt x="5940" y="11991"/>
                  <a:pt x="6052" y="11981"/>
                </a:cubicBezTo>
              </a:path>
              <a:path w="373" h="323">
                <a:moveTo>
                  <a:pt x="5804" y="12303"/>
                </a:moveTo>
                <a:cubicBezTo>
                  <a:pt x="5959" y="12252"/>
                  <a:pt x="6015" y="12235"/>
                  <a:pt x="6127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17760" y="3813120"/>
            <a:ext cx="1635120" cy="919080"/>
          </a:xfrm>
          <a:custGeom>
            <a:avLst/>
            <a:gdLst/>
            <a:ahLst/>
            <a:rect l="l" t="t" r="r" b="b"/>
            <a:pathLst>
              <a:path w="4540" h="2555">
                <a:moveTo>
                  <a:pt x="4911" y="11435"/>
                </a:moveTo>
                <a:cubicBezTo>
                  <a:pt x="4892" y="11475"/>
                  <a:pt x="5006" y="12125"/>
                  <a:pt x="5011" y="12179"/>
                </a:cubicBezTo>
                <a:cubicBezTo>
                  <a:pt x="5032" y="12436"/>
                  <a:pt x="5034" y="12494"/>
                  <a:pt x="5060" y="12650"/>
                </a:cubicBezTo>
                <a:cubicBezTo>
                  <a:pt x="5094" y="12400"/>
                  <a:pt x="5110" y="12197"/>
                  <a:pt x="5184" y="11956"/>
                </a:cubicBezTo>
                <a:cubicBezTo>
                  <a:pt x="5217" y="11848"/>
                  <a:pt x="5369" y="11441"/>
                  <a:pt x="5482" y="11460"/>
                </a:cubicBezTo>
                <a:cubicBezTo>
                  <a:pt x="5482" y="11476"/>
                  <a:pt x="5482" y="11493"/>
                  <a:pt x="5482" y="11509"/>
                </a:cubicBezTo>
              </a:path>
              <a:path w="4540" h="2555">
                <a:moveTo>
                  <a:pt x="6474" y="11683"/>
                </a:moveTo>
                <a:cubicBezTo>
                  <a:pt x="6474" y="12026"/>
                  <a:pt x="6414" y="12337"/>
                  <a:pt x="6375" y="12675"/>
                </a:cubicBezTo>
                <a:cubicBezTo>
                  <a:pt x="6375" y="12766"/>
                  <a:pt x="6342" y="12807"/>
                  <a:pt x="6400" y="12799"/>
                </a:cubicBezTo>
              </a:path>
              <a:path w="4540" h="2555">
                <a:moveTo>
                  <a:pt x="6896" y="12229"/>
                </a:moveTo>
                <a:cubicBezTo>
                  <a:pt x="6867" y="12389"/>
                  <a:pt x="6791" y="12554"/>
                  <a:pt x="6821" y="12725"/>
                </a:cubicBezTo>
                <a:cubicBezTo>
                  <a:pt x="6830" y="12778"/>
                  <a:pt x="7029" y="12389"/>
                  <a:pt x="7045" y="12328"/>
                </a:cubicBezTo>
                <a:cubicBezTo>
                  <a:pt x="7017" y="12521"/>
                  <a:pt x="7038" y="12569"/>
                  <a:pt x="7144" y="12725"/>
                </a:cubicBezTo>
                <a:cubicBezTo>
                  <a:pt x="7340" y="12559"/>
                  <a:pt x="7446" y="12421"/>
                  <a:pt x="7317" y="12154"/>
                </a:cubicBezTo>
                <a:cubicBezTo>
                  <a:pt x="7301" y="12138"/>
                  <a:pt x="7284" y="12121"/>
                  <a:pt x="7268" y="12105"/>
                </a:cubicBezTo>
              </a:path>
              <a:path w="4540" h="2555">
                <a:moveTo>
                  <a:pt x="7714" y="11757"/>
                </a:moveTo>
                <a:cubicBezTo>
                  <a:pt x="7706" y="12081"/>
                  <a:pt x="7677" y="12402"/>
                  <a:pt x="7665" y="12725"/>
                </a:cubicBezTo>
                <a:cubicBezTo>
                  <a:pt x="7681" y="12473"/>
                  <a:pt x="7728" y="12276"/>
                  <a:pt x="7838" y="12055"/>
                </a:cubicBezTo>
                <a:cubicBezTo>
                  <a:pt x="7927" y="12160"/>
                  <a:pt x="8036" y="12559"/>
                  <a:pt x="8161" y="12601"/>
                </a:cubicBezTo>
                <a:cubicBezTo>
                  <a:pt x="8250" y="12571"/>
                  <a:pt x="8284" y="12551"/>
                  <a:pt x="8310" y="12477"/>
                </a:cubicBezTo>
              </a:path>
              <a:path w="4540" h="2555">
                <a:moveTo>
                  <a:pt x="5035" y="12824"/>
                </a:moveTo>
                <a:cubicBezTo>
                  <a:pt x="5878" y="12824"/>
                  <a:pt x="6725" y="12791"/>
                  <a:pt x="7565" y="12874"/>
                </a:cubicBezTo>
                <a:cubicBezTo>
                  <a:pt x="7889" y="12906"/>
                  <a:pt x="8255" y="13062"/>
                  <a:pt x="8558" y="13097"/>
                </a:cubicBezTo>
                <a:cubicBezTo>
                  <a:pt x="8626" y="13105"/>
                  <a:pt x="8670" y="13072"/>
                  <a:pt x="8731" y="13072"/>
                </a:cubicBezTo>
                <a:cubicBezTo>
                  <a:pt x="8739" y="13072"/>
                  <a:pt x="8748" y="13072"/>
                  <a:pt x="8756" y="13072"/>
                </a:cubicBezTo>
                <a:cubicBezTo>
                  <a:pt x="8727" y="12927"/>
                  <a:pt x="8688" y="12766"/>
                  <a:pt x="8682" y="12601"/>
                </a:cubicBezTo>
                <a:cubicBezTo>
                  <a:pt x="8667" y="12162"/>
                  <a:pt x="8615" y="11637"/>
                  <a:pt x="8731" y="11212"/>
                </a:cubicBezTo>
                <a:cubicBezTo>
                  <a:pt x="8754" y="11189"/>
                  <a:pt x="8762" y="11185"/>
                  <a:pt x="8756" y="11162"/>
                </a:cubicBezTo>
                <a:cubicBezTo>
                  <a:pt x="8624" y="11114"/>
                  <a:pt x="8473" y="11042"/>
                  <a:pt x="8334" y="11013"/>
                </a:cubicBezTo>
                <a:cubicBezTo>
                  <a:pt x="7658" y="10869"/>
                  <a:pt x="6961" y="10815"/>
                  <a:pt x="6276" y="10740"/>
                </a:cubicBezTo>
                <a:cubicBezTo>
                  <a:pt x="5969" y="10706"/>
                  <a:pt x="5664" y="10644"/>
                  <a:pt x="5358" y="10616"/>
                </a:cubicBezTo>
                <a:cubicBezTo>
                  <a:pt x="5228" y="10604"/>
                  <a:pt x="5032" y="10658"/>
                  <a:pt x="4887" y="10691"/>
                </a:cubicBezTo>
                <a:cubicBezTo>
                  <a:pt x="4749" y="10723"/>
                  <a:pt x="4544" y="10719"/>
                  <a:pt x="4415" y="10765"/>
                </a:cubicBezTo>
                <a:cubicBezTo>
                  <a:pt x="4365" y="10783"/>
                  <a:pt x="4356" y="10816"/>
                  <a:pt x="4341" y="10864"/>
                </a:cubicBezTo>
                <a:cubicBezTo>
                  <a:pt x="4199" y="11311"/>
                  <a:pt x="4338" y="11934"/>
                  <a:pt x="4316" y="12402"/>
                </a:cubicBezTo>
                <a:cubicBezTo>
                  <a:pt x="4309" y="12554"/>
                  <a:pt x="4287" y="12723"/>
                  <a:pt x="4266" y="12874"/>
                </a:cubicBezTo>
                <a:cubicBezTo>
                  <a:pt x="4256" y="12945"/>
                  <a:pt x="4226" y="13021"/>
                  <a:pt x="4217" y="13097"/>
                </a:cubicBezTo>
                <a:cubicBezTo>
                  <a:pt x="4217" y="13113"/>
                  <a:pt x="4217" y="13130"/>
                  <a:pt x="4217" y="13146"/>
                </a:cubicBezTo>
                <a:cubicBezTo>
                  <a:pt x="4424" y="13134"/>
                  <a:pt x="4630" y="13133"/>
                  <a:pt x="4837" y="13122"/>
                </a:cubicBezTo>
                <a:cubicBezTo>
                  <a:pt x="5057" y="13110"/>
                  <a:pt x="5246" y="13113"/>
                  <a:pt x="5457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27160" y="2550960"/>
            <a:ext cx="69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you find the volume of a rectangular prism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0" y="4010040"/>
            <a:ext cx="206640" cy="150840"/>
          </a:xfrm>
          <a:custGeom>
            <a:avLst/>
            <a:gdLst/>
            <a:ahLst/>
            <a:rect l="l" t="t" r="r" b="b"/>
            <a:pathLst>
              <a:path w="572" h="423">
                <a:moveTo>
                  <a:pt x="9971" y="11237"/>
                </a:moveTo>
                <a:cubicBezTo>
                  <a:pt x="10137" y="11179"/>
                  <a:pt x="10331" y="11069"/>
                  <a:pt x="10468" y="11187"/>
                </a:cubicBezTo>
              </a:path>
              <a:path w="572" h="423">
                <a:moveTo>
                  <a:pt x="10071" y="11559"/>
                </a:moveTo>
                <a:cubicBezTo>
                  <a:pt x="10253" y="11495"/>
                  <a:pt x="10359" y="11450"/>
                  <a:pt x="10542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21000" y="3803760"/>
            <a:ext cx="189000" cy="509400"/>
          </a:xfrm>
          <a:custGeom>
            <a:avLst/>
            <a:gdLst/>
            <a:ahLst/>
            <a:rect l="l" t="t" r="r" b="b"/>
            <a:pathLst>
              <a:path w="522" h="1415">
                <a:moveTo>
                  <a:pt x="9227" y="10641"/>
                </a:moveTo>
                <a:cubicBezTo>
                  <a:pt x="9396" y="11017"/>
                  <a:pt x="9461" y="11344"/>
                  <a:pt x="9475" y="11757"/>
                </a:cubicBezTo>
                <a:cubicBezTo>
                  <a:pt x="9475" y="11890"/>
                  <a:pt x="9475" y="11906"/>
                  <a:pt x="9475" y="11981"/>
                </a:cubicBezTo>
                <a:cubicBezTo>
                  <a:pt x="9475" y="11576"/>
                  <a:pt x="9511" y="11182"/>
                  <a:pt x="9624" y="10790"/>
                </a:cubicBezTo>
                <a:cubicBezTo>
                  <a:pt x="9667" y="10641"/>
                  <a:pt x="9696" y="10578"/>
                  <a:pt x="9748" y="105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46680" y="3768840"/>
            <a:ext cx="54000" cy="571320"/>
          </a:xfrm>
          <a:custGeom>
            <a:avLst/>
            <a:gdLst/>
            <a:ahLst/>
            <a:rect l="l" t="t" r="r" b="b"/>
            <a:pathLst>
              <a:path w="149" h="1588">
                <a:moveTo>
                  <a:pt x="10964" y="10468"/>
                </a:moveTo>
                <a:cubicBezTo>
                  <a:pt x="11030" y="10903"/>
                  <a:pt x="11059" y="11315"/>
                  <a:pt x="11063" y="11757"/>
                </a:cubicBezTo>
                <a:cubicBezTo>
                  <a:pt x="11064" y="11857"/>
                  <a:pt x="11016" y="12128"/>
                  <a:pt x="11112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60880" y="3751200"/>
            <a:ext cx="652320" cy="554040"/>
          </a:xfrm>
          <a:custGeom>
            <a:avLst/>
            <a:gdLst/>
            <a:ahLst/>
            <a:rect l="l" t="t" r="r" b="b"/>
            <a:pathLst>
              <a:path w="1812" h="1539">
                <a:moveTo>
                  <a:pt x="11559" y="11261"/>
                </a:moveTo>
                <a:cubicBezTo>
                  <a:pt x="11559" y="11472"/>
                  <a:pt x="11507" y="11712"/>
                  <a:pt x="11609" y="11906"/>
                </a:cubicBezTo>
                <a:cubicBezTo>
                  <a:pt x="11732" y="12142"/>
                  <a:pt x="11802" y="11460"/>
                  <a:pt x="11807" y="11410"/>
                </a:cubicBezTo>
                <a:cubicBezTo>
                  <a:pt x="11807" y="11402"/>
                  <a:pt x="11807" y="11393"/>
                  <a:pt x="11807" y="11385"/>
                </a:cubicBezTo>
                <a:cubicBezTo>
                  <a:pt x="11842" y="11598"/>
                  <a:pt x="11875" y="11725"/>
                  <a:pt x="11981" y="11906"/>
                </a:cubicBezTo>
                <a:cubicBezTo>
                  <a:pt x="12259" y="11761"/>
                  <a:pt x="12359" y="11565"/>
                  <a:pt x="12204" y="11237"/>
                </a:cubicBezTo>
                <a:cubicBezTo>
                  <a:pt x="12132" y="11164"/>
                  <a:pt x="12099" y="11170"/>
                  <a:pt x="12105" y="11112"/>
                </a:cubicBezTo>
              </a:path>
              <a:path w="1812" h="1539">
                <a:moveTo>
                  <a:pt x="12378" y="10418"/>
                </a:moveTo>
                <a:cubicBezTo>
                  <a:pt x="12470" y="10845"/>
                  <a:pt x="12477" y="11247"/>
                  <a:pt x="12477" y="11683"/>
                </a:cubicBezTo>
                <a:cubicBezTo>
                  <a:pt x="12477" y="11708"/>
                  <a:pt x="12477" y="11732"/>
                  <a:pt x="12477" y="11757"/>
                </a:cubicBezTo>
                <a:cubicBezTo>
                  <a:pt x="12497" y="11444"/>
                  <a:pt x="12566" y="11248"/>
                  <a:pt x="12725" y="10988"/>
                </a:cubicBezTo>
                <a:cubicBezTo>
                  <a:pt x="12924" y="11153"/>
                  <a:pt x="12807" y="11426"/>
                  <a:pt x="12998" y="11584"/>
                </a:cubicBezTo>
                <a:cubicBezTo>
                  <a:pt x="13163" y="11720"/>
                  <a:pt x="13297" y="11470"/>
                  <a:pt x="13370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.) l=12cm  h=4cm  w=15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2860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54760" y="2813040"/>
            <a:ext cx="982440" cy="1517760"/>
          </a:xfrm>
          <a:custGeom>
            <a:avLst/>
            <a:gdLst/>
            <a:ahLst/>
            <a:rect l="l" t="t" r="r" b="b"/>
            <a:pathLst>
              <a:path w="2730" h="4218">
                <a:moveTo>
                  <a:pt x="15280" y="7838"/>
                </a:moveTo>
                <a:cubicBezTo>
                  <a:pt x="15593" y="7867"/>
                  <a:pt x="15632" y="8103"/>
                  <a:pt x="15429" y="8384"/>
                </a:cubicBezTo>
                <a:cubicBezTo>
                  <a:pt x="15291" y="8499"/>
                  <a:pt x="15255" y="8538"/>
                  <a:pt x="15131" y="8533"/>
                </a:cubicBezTo>
                <a:cubicBezTo>
                  <a:pt x="15180" y="8404"/>
                  <a:pt x="15368" y="8218"/>
                  <a:pt x="15528" y="8384"/>
                </a:cubicBezTo>
                <a:cubicBezTo>
                  <a:pt x="15570" y="8491"/>
                  <a:pt x="15592" y="8515"/>
                  <a:pt x="15553" y="8582"/>
                </a:cubicBezTo>
              </a:path>
              <a:path w="2730" h="4218">
                <a:moveTo>
                  <a:pt x="14957" y="8954"/>
                </a:moveTo>
                <a:cubicBezTo>
                  <a:pt x="14964" y="9096"/>
                  <a:pt x="14982" y="9233"/>
                  <a:pt x="14982" y="9376"/>
                </a:cubicBezTo>
                <a:cubicBezTo>
                  <a:pt x="14982" y="9368"/>
                  <a:pt x="14982" y="9359"/>
                  <a:pt x="14982" y="9351"/>
                </a:cubicBezTo>
              </a:path>
              <a:path w="2730" h="4218">
                <a:moveTo>
                  <a:pt x="15602" y="8781"/>
                </a:moveTo>
                <a:cubicBezTo>
                  <a:pt x="15557" y="8800"/>
                  <a:pt x="15396" y="8845"/>
                  <a:pt x="15404" y="8905"/>
                </a:cubicBezTo>
                <a:cubicBezTo>
                  <a:pt x="15413" y="8974"/>
                  <a:pt x="15429" y="9013"/>
                  <a:pt x="15429" y="9079"/>
                </a:cubicBezTo>
                <a:cubicBezTo>
                  <a:pt x="15492" y="9061"/>
                  <a:pt x="15758" y="8962"/>
                  <a:pt x="15751" y="9128"/>
                </a:cubicBezTo>
                <a:cubicBezTo>
                  <a:pt x="15747" y="9223"/>
                  <a:pt x="15409" y="9334"/>
                  <a:pt x="15404" y="9277"/>
                </a:cubicBezTo>
                <a:cubicBezTo>
                  <a:pt x="15420" y="9260"/>
                  <a:pt x="15437" y="9244"/>
                  <a:pt x="15453" y="9227"/>
                </a:cubicBezTo>
              </a:path>
              <a:path w="2730" h="4218">
                <a:moveTo>
                  <a:pt x="14039" y="9723"/>
                </a:moveTo>
                <a:cubicBezTo>
                  <a:pt x="14512" y="9693"/>
                  <a:pt x="15160" y="9436"/>
                  <a:pt x="15652" y="9351"/>
                </a:cubicBezTo>
                <a:cubicBezTo>
                  <a:pt x="16056" y="9281"/>
                  <a:pt x="17072" y="9149"/>
                  <a:pt x="16669" y="9227"/>
                </a:cubicBezTo>
              </a:path>
              <a:path w="2730" h="4218">
                <a:moveTo>
                  <a:pt x="15925" y="9599"/>
                </a:moveTo>
                <a:cubicBezTo>
                  <a:pt x="15951" y="9520"/>
                  <a:pt x="15881" y="9670"/>
                  <a:pt x="15850" y="9748"/>
                </a:cubicBezTo>
                <a:cubicBezTo>
                  <a:pt x="15806" y="9905"/>
                  <a:pt x="15786" y="9945"/>
                  <a:pt x="15825" y="10046"/>
                </a:cubicBezTo>
                <a:cubicBezTo>
                  <a:pt x="15970" y="10010"/>
                  <a:pt x="16258" y="9853"/>
                  <a:pt x="16049" y="9649"/>
                </a:cubicBezTo>
                <a:cubicBezTo>
                  <a:pt x="15917" y="9596"/>
                  <a:pt x="15869" y="9574"/>
                  <a:pt x="15801" y="9500"/>
                </a:cubicBezTo>
              </a:path>
              <a:path w="2730" h="4218">
                <a:moveTo>
                  <a:pt x="14957" y="9723"/>
                </a:moveTo>
                <a:cubicBezTo>
                  <a:pt x="14957" y="9647"/>
                  <a:pt x="14957" y="9694"/>
                  <a:pt x="14957" y="9748"/>
                </a:cubicBezTo>
                <a:cubicBezTo>
                  <a:pt x="14957" y="9904"/>
                  <a:pt x="14941" y="10044"/>
                  <a:pt x="14957" y="10195"/>
                </a:cubicBezTo>
                <a:cubicBezTo>
                  <a:pt x="15156" y="10219"/>
                  <a:pt x="15265" y="10188"/>
                  <a:pt x="15329" y="9971"/>
                </a:cubicBezTo>
                <a:cubicBezTo>
                  <a:pt x="15329" y="9946"/>
                  <a:pt x="15329" y="9922"/>
                  <a:pt x="15329" y="9897"/>
                </a:cubicBezTo>
                <a:cubicBezTo>
                  <a:pt x="15203" y="9911"/>
                  <a:pt x="15111" y="9974"/>
                  <a:pt x="15106" y="10120"/>
                </a:cubicBezTo>
                <a:cubicBezTo>
                  <a:pt x="15133" y="10202"/>
                  <a:pt x="15149" y="10225"/>
                  <a:pt x="15230" y="10170"/>
                </a:cubicBezTo>
              </a:path>
              <a:path w="2730" h="4218">
                <a:moveTo>
                  <a:pt x="16049" y="10319"/>
                </a:moveTo>
                <a:cubicBezTo>
                  <a:pt x="16026" y="10249"/>
                  <a:pt x="16036" y="10324"/>
                  <a:pt x="16024" y="10344"/>
                </a:cubicBezTo>
                <a:cubicBezTo>
                  <a:pt x="15999" y="10388"/>
                  <a:pt x="15945" y="10401"/>
                  <a:pt x="15974" y="10468"/>
                </a:cubicBezTo>
                <a:cubicBezTo>
                  <a:pt x="15987" y="10498"/>
                  <a:pt x="16045" y="10560"/>
                  <a:pt x="16073" y="10567"/>
                </a:cubicBezTo>
                <a:cubicBezTo>
                  <a:pt x="16127" y="10581"/>
                  <a:pt x="16238" y="10525"/>
                  <a:pt x="16272" y="10492"/>
                </a:cubicBezTo>
                <a:cubicBezTo>
                  <a:pt x="16290" y="10474"/>
                  <a:pt x="16310" y="10398"/>
                  <a:pt x="16297" y="10368"/>
                </a:cubicBezTo>
                <a:cubicBezTo>
                  <a:pt x="16280" y="10327"/>
                  <a:pt x="16208" y="10287"/>
                  <a:pt x="16173" y="10269"/>
                </a:cubicBezTo>
                <a:cubicBezTo>
                  <a:pt x="16131" y="10247"/>
                  <a:pt x="16035" y="10226"/>
                  <a:pt x="15999" y="10269"/>
                </a:cubicBezTo>
                <a:cubicBezTo>
                  <a:pt x="15980" y="10292"/>
                  <a:pt x="15974" y="10302"/>
                  <a:pt x="15974" y="10344"/>
                </a:cubicBezTo>
              </a:path>
              <a:path w="2730" h="4218">
                <a:moveTo>
                  <a:pt x="15205" y="10567"/>
                </a:moveTo>
                <a:cubicBezTo>
                  <a:pt x="15298" y="10536"/>
                  <a:pt x="15381" y="10469"/>
                  <a:pt x="15478" y="10443"/>
                </a:cubicBezTo>
                <a:cubicBezTo>
                  <a:pt x="15491" y="10618"/>
                  <a:pt x="15405" y="10714"/>
                  <a:pt x="15304" y="10864"/>
                </a:cubicBezTo>
                <a:cubicBezTo>
                  <a:pt x="15409" y="10837"/>
                  <a:pt x="15481" y="10814"/>
                  <a:pt x="15577" y="10765"/>
                </a:cubicBezTo>
              </a:path>
              <a:path w="2730" h="4218">
                <a:moveTo>
                  <a:pt x="14660" y="10691"/>
                </a:moveTo>
                <a:cubicBezTo>
                  <a:pt x="14660" y="10588"/>
                  <a:pt x="14700" y="10842"/>
                  <a:pt x="14734" y="10939"/>
                </a:cubicBezTo>
                <a:cubicBezTo>
                  <a:pt x="14777" y="11045"/>
                  <a:pt x="14793" y="11066"/>
                  <a:pt x="14784" y="11137"/>
                </a:cubicBezTo>
              </a:path>
              <a:path w="2730" h="4218">
                <a:moveTo>
                  <a:pt x="15007" y="11509"/>
                </a:moveTo>
                <a:cubicBezTo>
                  <a:pt x="14974" y="11623"/>
                  <a:pt x="15029" y="11818"/>
                  <a:pt x="15032" y="11956"/>
                </a:cubicBezTo>
                <a:cubicBezTo>
                  <a:pt x="15032" y="12013"/>
                  <a:pt x="15015" y="12038"/>
                  <a:pt x="15056" y="12030"/>
                </a:cubicBezTo>
              </a:path>
              <a:path w="2730" h="4218">
                <a:moveTo>
                  <a:pt x="15875" y="11187"/>
                </a:moveTo>
                <a:cubicBezTo>
                  <a:pt x="15781" y="11221"/>
                  <a:pt x="15373" y="11356"/>
                  <a:pt x="15553" y="11509"/>
                </a:cubicBezTo>
                <a:cubicBezTo>
                  <a:pt x="15715" y="11647"/>
                  <a:pt x="15760" y="11550"/>
                  <a:pt x="15825" y="11733"/>
                </a:cubicBezTo>
                <a:cubicBezTo>
                  <a:pt x="15706" y="11804"/>
                  <a:pt x="15671" y="11830"/>
                  <a:pt x="15577" y="11782"/>
                </a:cubicBezTo>
                <a:cubicBezTo>
                  <a:pt x="15656" y="11595"/>
                  <a:pt x="16049" y="11366"/>
                  <a:pt x="15875" y="11261"/>
                </a:cubicBezTo>
                <a:cubicBezTo>
                  <a:pt x="15842" y="11261"/>
                  <a:pt x="15809" y="11261"/>
                  <a:pt x="15776" y="11261"/>
                </a:cubicBezTo>
              </a:path>
              <a:path w="2730" h="4218">
                <a:moveTo>
                  <a:pt x="16222" y="10988"/>
                </a:moveTo>
                <a:cubicBezTo>
                  <a:pt x="16143" y="11190"/>
                  <a:pt x="16115" y="11319"/>
                  <a:pt x="16123" y="11534"/>
                </a:cubicBezTo>
                <a:cubicBezTo>
                  <a:pt x="16318" y="11515"/>
                  <a:pt x="16694" y="11323"/>
                  <a:pt x="16470" y="11038"/>
                </a:cubicBezTo>
                <a:cubicBezTo>
                  <a:pt x="16286" y="10959"/>
                  <a:pt x="16216" y="10935"/>
                  <a:pt x="16073" y="109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59000" y="3178080"/>
            <a:ext cx="2938320" cy="536760"/>
          </a:xfrm>
          <a:custGeom>
            <a:avLst/>
            <a:gdLst/>
            <a:ahLst/>
            <a:rect l="l" t="t" r="r" b="b"/>
            <a:pathLst>
              <a:path w="8161" h="1490">
                <a:moveTo>
                  <a:pt x="6474" y="8855"/>
                </a:moveTo>
                <a:cubicBezTo>
                  <a:pt x="6597" y="8830"/>
                  <a:pt x="6638" y="8822"/>
                  <a:pt x="6722" y="8830"/>
                </a:cubicBezTo>
              </a:path>
              <a:path w="8161" h="1490">
                <a:moveTo>
                  <a:pt x="6276" y="9128"/>
                </a:moveTo>
                <a:cubicBezTo>
                  <a:pt x="6443" y="9110"/>
                  <a:pt x="6602" y="9078"/>
                  <a:pt x="6772" y="9054"/>
                </a:cubicBezTo>
              </a:path>
              <a:path w="8161" h="1490">
                <a:moveTo>
                  <a:pt x="6772" y="9054"/>
                </a:moveTo>
                <a:lnTo>
                  <a:pt x="6772" y="9054"/>
                </a:lnTo>
              </a:path>
              <a:path w="8161" h="1490">
                <a:moveTo>
                  <a:pt x="8855" y="10046"/>
                </a:moveTo>
                <a:cubicBezTo>
                  <a:pt x="8954" y="10010"/>
                  <a:pt x="9053" y="9967"/>
                  <a:pt x="9153" y="9947"/>
                </a:cubicBezTo>
              </a:path>
              <a:path w="8161" h="1490">
                <a:moveTo>
                  <a:pt x="9351" y="10319"/>
                </a:moveTo>
                <a:cubicBezTo>
                  <a:pt x="9351" y="10311"/>
                  <a:pt x="9351" y="10302"/>
                  <a:pt x="9351" y="10294"/>
                </a:cubicBezTo>
              </a:path>
              <a:path w="8161" h="1490">
                <a:moveTo>
                  <a:pt x="14312" y="8930"/>
                </a:moveTo>
                <a:cubicBezTo>
                  <a:pt x="14340" y="9025"/>
                  <a:pt x="14371" y="9112"/>
                  <a:pt x="14412" y="9203"/>
                </a:cubicBezTo>
              </a:path>
              <a:path w="8161" h="1490">
                <a:moveTo>
                  <a:pt x="14312" y="9004"/>
                </a:moveTo>
                <a:cubicBezTo>
                  <a:pt x="14245" y="9161"/>
                  <a:pt x="14227" y="9202"/>
                  <a:pt x="14188" y="9302"/>
                </a:cubicBezTo>
              </a:path>
              <a:path w="8161" h="1490">
                <a:moveTo>
                  <a:pt x="14188" y="9302"/>
                </a:moveTo>
                <a:lnTo>
                  <a:pt x="14188" y="9302"/>
                </a:lnTo>
              </a:path>
              <a:path w="8161" h="1490">
                <a:moveTo>
                  <a:pt x="14362" y="9128"/>
                </a:moveTo>
                <a:cubicBezTo>
                  <a:pt x="14380" y="9064"/>
                  <a:pt x="14411" y="8995"/>
                  <a:pt x="14436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89080" y="3062160"/>
            <a:ext cx="196920" cy="331920"/>
          </a:xfrm>
          <a:custGeom>
            <a:avLst/>
            <a:gdLst/>
            <a:ahLst/>
            <a:rect l="l" t="t" r="r" b="b"/>
            <a:pathLst>
              <a:path w="547" h="919">
                <a:moveTo>
                  <a:pt x="5804" y="8558"/>
                </a:moveTo>
                <a:cubicBezTo>
                  <a:pt x="5945" y="8828"/>
                  <a:pt x="6035" y="9073"/>
                  <a:pt x="6077" y="9376"/>
                </a:cubicBezTo>
                <a:cubicBezTo>
                  <a:pt x="6077" y="9393"/>
                  <a:pt x="6077" y="9409"/>
                  <a:pt x="6077" y="9426"/>
                </a:cubicBezTo>
                <a:cubicBezTo>
                  <a:pt x="6144" y="9134"/>
                  <a:pt x="6156" y="8827"/>
                  <a:pt x="6300" y="8558"/>
                </a:cubicBezTo>
                <a:cubicBezTo>
                  <a:pt x="6317" y="8541"/>
                  <a:pt x="6333" y="8525"/>
                  <a:pt x="6350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1200" y="3036960"/>
            <a:ext cx="17640" cy="357120"/>
          </a:xfrm>
          <a:custGeom>
            <a:avLst/>
            <a:gdLst/>
            <a:ahLst/>
            <a:rect l="l" t="t" r="r" b="b"/>
            <a:pathLst>
              <a:path w="50" h="993">
                <a:moveTo>
                  <a:pt x="7193" y="8434"/>
                </a:moveTo>
                <a:cubicBezTo>
                  <a:pt x="7213" y="8712"/>
                  <a:pt x="7258" y="9024"/>
                  <a:pt x="7218" y="9302"/>
                </a:cubicBezTo>
                <a:cubicBezTo>
                  <a:pt x="7182" y="9392"/>
                  <a:pt x="7130" y="9433"/>
                  <a:pt x="7193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51120" y="3106800"/>
            <a:ext cx="231840" cy="26028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7689" y="8855"/>
                </a:moveTo>
                <a:cubicBezTo>
                  <a:pt x="7667" y="9007"/>
                  <a:pt x="7599" y="9242"/>
                  <a:pt x="7665" y="9351"/>
                </a:cubicBezTo>
                <a:cubicBezTo>
                  <a:pt x="7767" y="9227"/>
                  <a:pt x="7846" y="9108"/>
                  <a:pt x="7938" y="8979"/>
                </a:cubicBezTo>
                <a:cubicBezTo>
                  <a:pt x="7911" y="9143"/>
                  <a:pt x="7965" y="9388"/>
                  <a:pt x="8186" y="9203"/>
                </a:cubicBezTo>
                <a:cubicBezTo>
                  <a:pt x="8407" y="9019"/>
                  <a:pt x="8254" y="8808"/>
                  <a:pt x="8136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06800" y="3009960"/>
            <a:ext cx="206280" cy="285840"/>
          </a:xfrm>
          <a:custGeom>
            <a:avLst/>
            <a:gdLst/>
            <a:ahLst/>
            <a:rect l="l" t="t" r="r" b="b"/>
            <a:pathLst>
              <a:path w="572" h="795">
                <a:moveTo>
                  <a:pt x="8632" y="8359"/>
                </a:moveTo>
                <a:cubicBezTo>
                  <a:pt x="8660" y="8625"/>
                  <a:pt x="8682" y="8885"/>
                  <a:pt x="8682" y="9153"/>
                </a:cubicBezTo>
                <a:cubicBezTo>
                  <a:pt x="8699" y="8964"/>
                  <a:pt x="8778" y="8839"/>
                  <a:pt x="8880" y="8682"/>
                </a:cubicBezTo>
                <a:cubicBezTo>
                  <a:pt x="8982" y="8805"/>
                  <a:pt x="8926" y="9050"/>
                  <a:pt x="9029" y="9153"/>
                </a:cubicBezTo>
                <a:cubicBezTo>
                  <a:pt x="9113" y="9153"/>
                  <a:pt x="9147" y="9151"/>
                  <a:pt x="9203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71840" y="3633840"/>
            <a:ext cx="758880" cy="617400"/>
          </a:xfrm>
          <a:custGeom>
            <a:avLst/>
            <a:gdLst/>
            <a:ahLst/>
            <a:rect l="l" t="t" r="r" b="b"/>
            <a:pathLst>
              <a:path w="2109" h="1712">
                <a:moveTo>
                  <a:pt x="7541" y="10120"/>
                </a:moveTo>
                <a:cubicBezTo>
                  <a:pt x="7658" y="10120"/>
                  <a:pt x="7692" y="10118"/>
                  <a:pt x="7764" y="10145"/>
                </a:cubicBezTo>
                <a:cubicBezTo>
                  <a:pt x="7717" y="10358"/>
                  <a:pt x="7606" y="10433"/>
                  <a:pt x="7466" y="10592"/>
                </a:cubicBezTo>
                <a:cubicBezTo>
                  <a:pt x="7458" y="10608"/>
                  <a:pt x="7449" y="10625"/>
                  <a:pt x="7441" y="10641"/>
                </a:cubicBezTo>
                <a:cubicBezTo>
                  <a:pt x="7582" y="10613"/>
                  <a:pt x="7721" y="10564"/>
                  <a:pt x="7863" y="10542"/>
                </a:cubicBezTo>
              </a:path>
              <a:path w="2109" h="1712">
                <a:moveTo>
                  <a:pt x="8830" y="10096"/>
                </a:moveTo>
                <a:cubicBezTo>
                  <a:pt x="8822" y="10112"/>
                  <a:pt x="8814" y="10129"/>
                  <a:pt x="8806" y="10145"/>
                </a:cubicBezTo>
                <a:cubicBezTo>
                  <a:pt x="8833" y="10256"/>
                  <a:pt x="8989" y="10212"/>
                  <a:pt x="9054" y="10294"/>
                </a:cubicBezTo>
                <a:cubicBezTo>
                  <a:pt x="9214" y="10496"/>
                  <a:pt x="8870" y="10481"/>
                  <a:pt x="8781" y="10443"/>
                </a:cubicBezTo>
                <a:cubicBezTo>
                  <a:pt x="8756" y="10426"/>
                  <a:pt x="8731" y="10410"/>
                  <a:pt x="8706" y="10393"/>
                </a:cubicBezTo>
              </a:path>
              <a:path w="2109" h="1712">
                <a:moveTo>
                  <a:pt x="7243" y="11063"/>
                </a:moveTo>
                <a:cubicBezTo>
                  <a:pt x="7224" y="11304"/>
                  <a:pt x="7177" y="11542"/>
                  <a:pt x="7144" y="11782"/>
                </a:cubicBezTo>
                <a:cubicBezTo>
                  <a:pt x="7144" y="11790"/>
                  <a:pt x="7144" y="11799"/>
                  <a:pt x="7144" y="11807"/>
                </a:cubicBezTo>
              </a:path>
              <a:path w="2109" h="1712">
                <a:moveTo>
                  <a:pt x="7714" y="11162"/>
                </a:moveTo>
                <a:cubicBezTo>
                  <a:pt x="7576" y="11300"/>
                  <a:pt x="7386" y="11384"/>
                  <a:pt x="7590" y="11534"/>
                </a:cubicBezTo>
                <a:cubicBezTo>
                  <a:pt x="7703" y="11602"/>
                  <a:pt x="7735" y="11618"/>
                  <a:pt x="7789" y="11683"/>
                </a:cubicBezTo>
                <a:cubicBezTo>
                  <a:pt x="7772" y="11700"/>
                  <a:pt x="7756" y="11716"/>
                  <a:pt x="7739" y="11733"/>
                </a:cubicBezTo>
                <a:cubicBezTo>
                  <a:pt x="7442" y="11782"/>
                  <a:pt x="7551" y="11598"/>
                  <a:pt x="7665" y="11385"/>
                </a:cubicBezTo>
                <a:cubicBezTo>
                  <a:pt x="7720" y="11292"/>
                  <a:pt x="7719" y="11276"/>
                  <a:pt x="7764" y="11237"/>
                </a:cubicBezTo>
              </a:path>
              <a:path w="2109" h="1712">
                <a:moveTo>
                  <a:pt x="8062" y="11237"/>
                </a:moveTo>
                <a:cubicBezTo>
                  <a:pt x="7939" y="11400"/>
                  <a:pt x="7911" y="11479"/>
                  <a:pt x="7888" y="11683"/>
                </a:cubicBezTo>
                <a:cubicBezTo>
                  <a:pt x="8062" y="11756"/>
                  <a:pt x="8369" y="11770"/>
                  <a:pt x="8334" y="11460"/>
                </a:cubicBezTo>
                <a:cubicBezTo>
                  <a:pt x="8312" y="11264"/>
                  <a:pt x="8155" y="11261"/>
                  <a:pt x="8012" y="11237"/>
                </a:cubicBezTo>
              </a:path>
              <a:path w="2109" h="1712">
                <a:moveTo>
                  <a:pt x="8880" y="11112"/>
                </a:moveTo>
                <a:cubicBezTo>
                  <a:pt x="8880" y="11204"/>
                  <a:pt x="8869" y="11247"/>
                  <a:pt x="8979" y="11261"/>
                </a:cubicBezTo>
                <a:cubicBezTo>
                  <a:pt x="9084" y="11275"/>
                  <a:pt x="9158" y="11223"/>
                  <a:pt x="9252" y="11187"/>
                </a:cubicBezTo>
              </a:path>
              <a:path w="2109" h="1712">
                <a:moveTo>
                  <a:pt x="9103" y="10840"/>
                </a:moveTo>
                <a:cubicBezTo>
                  <a:pt x="9053" y="11115"/>
                  <a:pt x="9018" y="11357"/>
                  <a:pt x="9054" y="11633"/>
                </a:cubicBezTo>
                <a:cubicBezTo>
                  <a:pt x="9054" y="11641"/>
                  <a:pt x="9054" y="11650"/>
                  <a:pt x="9054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83000" y="3473280"/>
            <a:ext cx="142920" cy="322560"/>
          </a:xfrm>
          <a:custGeom>
            <a:avLst/>
            <a:gdLst/>
            <a:ahLst/>
            <a:rect l="l" t="t" r="r" b="b"/>
            <a:pathLst>
              <a:path w="398" h="894">
                <a:moveTo>
                  <a:pt x="9798" y="9872"/>
                </a:moveTo>
                <a:cubicBezTo>
                  <a:pt x="9781" y="9988"/>
                  <a:pt x="9730" y="10068"/>
                  <a:pt x="9674" y="10170"/>
                </a:cubicBezTo>
                <a:cubicBezTo>
                  <a:pt x="9789" y="10199"/>
                  <a:pt x="9943" y="10152"/>
                  <a:pt x="10071" y="10120"/>
                </a:cubicBezTo>
              </a:path>
              <a:path w="398" h="894">
                <a:moveTo>
                  <a:pt x="9996" y="9649"/>
                </a:moveTo>
                <a:cubicBezTo>
                  <a:pt x="9996" y="9897"/>
                  <a:pt x="9967" y="10129"/>
                  <a:pt x="9897" y="10368"/>
                </a:cubicBezTo>
                <a:cubicBezTo>
                  <a:pt x="9857" y="10468"/>
                  <a:pt x="9851" y="10486"/>
                  <a:pt x="9823" y="105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76640" y="3598920"/>
            <a:ext cx="3849480" cy="536400"/>
          </a:xfrm>
          <a:custGeom>
            <a:avLst/>
            <a:gdLst/>
            <a:ahLst/>
            <a:rect l="l" t="t" r="r" b="b"/>
            <a:pathLst>
              <a:path w="10692" h="1490">
                <a:moveTo>
                  <a:pt x="6400" y="10096"/>
                </a:moveTo>
                <a:cubicBezTo>
                  <a:pt x="6507" y="10056"/>
                  <a:pt x="6595" y="10027"/>
                  <a:pt x="6697" y="10071"/>
                </a:cubicBezTo>
              </a:path>
              <a:path w="10692" h="1490">
                <a:moveTo>
                  <a:pt x="6325" y="10244"/>
                </a:moveTo>
                <a:cubicBezTo>
                  <a:pt x="6475" y="10235"/>
                  <a:pt x="6623" y="10216"/>
                  <a:pt x="6772" y="10195"/>
                </a:cubicBezTo>
              </a:path>
              <a:path w="10692" h="1490">
                <a:moveTo>
                  <a:pt x="6772" y="10195"/>
                </a:moveTo>
                <a:lnTo>
                  <a:pt x="6772" y="10195"/>
                </a:lnTo>
              </a:path>
              <a:path w="10692" h="1490">
                <a:moveTo>
                  <a:pt x="7243" y="9996"/>
                </a:moveTo>
                <a:cubicBezTo>
                  <a:pt x="7236" y="10235"/>
                  <a:pt x="7230" y="10441"/>
                  <a:pt x="7144" y="10666"/>
                </a:cubicBezTo>
              </a:path>
              <a:path w="10692" h="1490">
                <a:moveTo>
                  <a:pt x="8111" y="10344"/>
                </a:moveTo>
                <a:cubicBezTo>
                  <a:pt x="8111" y="10384"/>
                  <a:pt x="8122" y="10403"/>
                  <a:pt x="8161" y="10418"/>
                </a:cubicBezTo>
              </a:path>
              <a:path w="10692" h="1490">
                <a:moveTo>
                  <a:pt x="8533" y="10120"/>
                </a:moveTo>
                <a:cubicBezTo>
                  <a:pt x="8525" y="10266"/>
                  <a:pt x="8522" y="10414"/>
                  <a:pt x="8458" y="10542"/>
                </a:cubicBezTo>
              </a:path>
              <a:path w="10692" h="1490">
                <a:moveTo>
                  <a:pt x="14486" y="11485"/>
                </a:moveTo>
                <a:cubicBezTo>
                  <a:pt x="15020" y="11239"/>
                  <a:pt x="15544" y="10999"/>
                  <a:pt x="16098" y="10790"/>
                </a:cubicBezTo>
                <a:cubicBezTo>
                  <a:pt x="16403" y="10675"/>
                  <a:pt x="16711" y="10579"/>
                  <a:pt x="17016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5320" y="3795840"/>
            <a:ext cx="2035440" cy="1170000"/>
          </a:xfrm>
          <a:custGeom>
            <a:avLst/>
            <a:gdLst/>
            <a:ahLst/>
            <a:rect l="l" t="t" r="r" b="b"/>
            <a:pathLst>
              <a:path w="5656" h="3250">
                <a:moveTo>
                  <a:pt x="7665" y="10716"/>
                </a:moveTo>
                <a:cubicBezTo>
                  <a:pt x="7683" y="10813"/>
                  <a:pt x="7683" y="10870"/>
                  <a:pt x="7665" y="10964"/>
                </a:cubicBezTo>
                <a:cubicBezTo>
                  <a:pt x="7665" y="10972"/>
                  <a:pt x="7665" y="10980"/>
                  <a:pt x="7665" y="10988"/>
                </a:cubicBezTo>
                <a:cubicBezTo>
                  <a:pt x="7890" y="10943"/>
                  <a:pt x="8123" y="10894"/>
                  <a:pt x="8359" y="10864"/>
                </a:cubicBezTo>
                <a:cubicBezTo>
                  <a:pt x="8389" y="10860"/>
                  <a:pt x="8783" y="10856"/>
                  <a:pt x="8806" y="10790"/>
                </a:cubicBezTo>
                <a:cubicBezTo>
                  <a:pt x="8830" y="10721"/>
                  <a:pt x="8844" y="10615"/>
                  <a:pt x="8855" y="10542"/>
                </a:cubicBezTo>
              </a:path>
              <a:path w="5656" h="3250">
                <a:moveTo>
                  <a:pt x="4986" y="12303"/>
                </a:moveTo>
                <a:cubicBezTo>
                  <a:pt x="5061" y="12670"/>
                  <a:pt x="5098" y="13012"/>
                  <a:pt x="5085" y="13395"/>
                </a:cubicBezTo>
                <a:cubicBezTo>
                  <a:pt x="5065" y="13617"/>
                  <a:pt x="5056" y="13658"/>
                  <a:pt x="5060" y="13791"/>
                </a:cubicBezTo>
                <a:cubicBezTo>
                  <a:pt x="5466" y="13727"/>
                  <a:pt x="5872" y="13647"/>
                  <a:pt x="6276" y="13568"/>
                </a:cubicBezTo>
                <a:cubicBezTo>
                  <a:pt x="7355" y="13358"/>
                  <a:pt x="8447" y="13311"/>
                  <a:pt x="9525" y="13122"/>
                </a:cubicBezTo>
                <a:cubicBezTo>
                  <a:pt x="9669" y="13097"/>
                  <a:pt x="9829" y="13038"/>
                  <a:pt x="9971" y="13022"/>
                </a:cubicBezTo>
                <a:cubicBezTo>
                  <a:pt x="10052" y="13013"/>
                  <a:pt x="10131" y="13033"/>
                  <a:pt x="10220" y="13022"/>
                </a:cubicBezTo>
                <a:cubicBezTo>
                  <a:pt x="10321" y="13009"/>
                  <a:pt x="10493" y="13009"/>
                  <a:pt x="10567" y="12923"/>
                </a:cubicBezTo>
                <a:cubicBezTo>
                  <a:pt x="10610" y="12873"/>
                  <a:pt x="10614" y="12205"/>
                  <a:pt x="10616" y="12179"/>
                </a:cubicBezTo>
                <a:cubicBezTo>
                  <a:pt x="10631" y="11935"/>
                  <a:pt x="10636" y="11702"/>
                  <a:pt x="10641" y="11460"/>
                </a:cubicBezTo>
                <a:cubicBezTo>
                  <a:pt x="10550" y="11537"/>
                  <a:pt x="10534" y="11597"/>
                  <a:pt x="10393" y="11633"/>
                </a:cubicBezTo>
                <a:cubicBezTo>
                  <a:pt x="9967" y="11741"/>
                  <a:pt x="9488" y="11767"/>
                  <a:pt x="9054" y="11832"/>
                </a:cubicBezTo>
                <a:cubicBezTo>
                  <a:pt x="8201" y="11959"/>
                  <a:pt x="7349" y="12096"/>
                  <a:pt x="6499" y="12229"/>
                </a:cubicBezTo>
                <a:cubicBezTo>
                  <a:pt x="6225" y="12272"/>
                  <a:pt x="5957" y="12360"/>
                  <a:pt x="5680" y="12378"/>
                </a:cubicBezTo>
                <a:cubicBezTo>
                  <a:pt x="5539" y="12387"/>
                  <a:pt x="5448" y="12386"/>
                  <a:pt x="5308" y="12402"/>
                </a:cubicBezTo>
                <a:cubicBezTo>
                  <a:pt x="5316" y="12402"/>
                  <a:pt x="5325" y="12402"/>
                  <a:pt x="5333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8800" y="4143240"/>
            <a:ext cx="1017360" cy="544680"/>
          </a:xfrm>
          <a:custGeom>
            <a:avLst/>
            <a:gdLst/>
            <a:ahLst/>
            <a:rect l="l" t="t" r="r" b="b"/>
            <a:pathLst>
              <a:path w="2829" h="1514">
                <a:moveTo>
                  <a:pt x="6375" y="11658"/>
                </a:moveTo>
                <a:cubicBezTo>
                  <a:pt x="6500" y="11658"/>
                  <a:pt x="6542" y="11658"/>
                  <a:pt x="6623" y="11633"/>
                </a:cubicBezTo>
              </a:path>
              <a:path w="2829" h="1514">
                <a:moveTo>
                  <a:pt x="8632" y="11509"/>
                </a:moveTo>
                <a:cubicBezTo>
                  <a:pt x="8632" y="11537"/>
                  <a:pt x="8634" y="11543"/>
                  <a:pt x="8657" y="11509"/>
                </a:cubicBezTo>
              </a:path>
              <a:path w="2829" h="1514">
                <a:moveTo>
                  <a:pt x="5829" y="13022"/>
                </a:moveTo>
                <a:cubicBezTo>
                  <a:pt x="6003" y="12973"/>
                  <a:pt x="6061" y="12957"/>
                  <a:pt x="6176" y="129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6960" y="4098960"/>
            <a:ext cx="1884240" cy="679320"/>
          </a:xfrm>
          <a:custGeom>
            <a:avLst/>
            <a:gdLst/>
            <a:ahLst/>
            <a:rect l="l" t="t" r="r" b="b"/>
            <a:pathLst>
              <a:path w="5235" h="1887">
                <a:moveTo>
                  <a:pt x="6350" y="11410"/>
                </a:moveTo>
                <a:cubicBezTo>
                  <a:pt x="6452" y="11392"/>
                  <a:pt x="6544" y="11385"/>
                  <a:pt x="6648" y="11385"/>
                </a:cubicBezTo>
              </a:path>
              <a:path w="5235" h="1887">
                <a:moveTo>
                  <a:pt x="6077" y="12700"/>
                </a:moveTo>
                <a:cubicBezTo>
                  <a:pt x="6193" y="12700"/>
                  <a:pt x="6210" y="12700"/>
                  <a:pt x="6276" y="12700"/>
                </a:cubicBezTo>
              </a:path>
              <a:path w="5235" h="1887">
                <a:moveTo>
                  <a:pt x="6598" y="12551"/>
                </a:moveTo>
                <a:cubicBezTo>
                  <a:pt x="6765" y="12522"/>
                  <a:pt x="6926" y="12491"/>
                  <a:pt x="7094" y="12477"/>
                </a:cubicBezTo>
                <a:cubicBezTo>
                  <a:pt x="7079" y="12655"/>
                  <a:pt x="7027" y="12829"/>
                  <a:pt x="6970" y="12998"/>
                </a:cubicBezTo>
                <a:cubicBezTo>
                  <a:pt x="6938" y="13061"/>
                  <a:pt x="6945" y="13074"/>
                  <a:pt x="7045" y="13022"/>
                </a:cubicBezTo>
              </a:path>
              <a:path w="5235" h="1887">
                <a:moveTo>
                  <a:pt x="7342" y="12477"/>
                </a:moveTo>
                <a:cubicBezTo>
                  <a:pt x="7427" y="12477"/>
                  <a:pt x="7482" y="12486"/>
                  <a:pt x="7565" y="12502"/>
                </a:cubicBezTo>
                <a:cubicBezTo>
                  <a:pt x="7579" y="12736"/>
                  <a:pt x="7457" y="12829"/>
                  <a:pt x="7293" y="12998"/>
                </a:cubicBezTo>
                <a:cubicBezTo>
                  <a:pt x="7276" y="13014"/>
                  <a:pt x="7260" y="13031"/>
                  <a:pt x="7243" y="13047"/>
                </a:cubicBezTo>
                <a:cubicBezTo>
                  <a:pt x="7429" y="13021"/>
                  <a:pt x="7614" y="12985"/>
                  <a:pt x="7789" y="12923"/>
                </a:cubicBezTo>
              </a:path>
              <a:path w="5235" h="1887">
                <a:moveTo>
                  <a:pt x="8186" y="12378"/>
                </a:moveTo>
                <a:cubicBezTo>
                  <a:pt x="8033" y="12553"/>
                  <a:pt x="7983" y="12668"/>
                  <a:pt x="7962" y="12898"/>
                </a:cubicBezTo>
                <a:cubicBezTo>
                  <a:pt x="8149" y="12934"/>
                  <a:pt x="8432" y="12900"/>
                  <a:pt x="8458" y="12626"/>
                </a:cubicBezTo>
                <a:cubicBezTo>
                  <a:pt x="8484" y="12354"/>
                  <a:pt x="8189" y="12417"/>
                  <a:pt x="8037" y="12427"/>
                </a:cubicBezTo>
              </a:path>
              <a:path w="5235" h="1887">
                <a:moveTo>
                  <a:pt x="8979" y="12725"/>
                </a:moveTo>
                <a:cubicBezTo>
                  <a:pt x="9004" y="12725"/>
                  <a:pt x="9012" y="12725"/>
                  <a:pt x="9004" y="12700"/>
                </a:cubicBezTo>
                <a:cubicBezTo>
                  <a:pt x="8875" y="12678"/>
                  <a:pt x="8869" y="12688"/>
                  <a:pt x="8855" y="12849"/>
                </a:cubicBezTo>
                <a:cubicBezTo>
                  <a:pt x="8831" y="13125"/>
                  <a:pt x="9025" y="13161"/>
                  <a:pt x="9203" y="12973"/>
                </a:cubicBezTo>
                <a:cubicBezTo>
                  <a:pt x="9283" y="12889"/>
                  <a:pt x="9261" y="12610"/>
                  <a:pt x="9351" y="12849"/>
                </a:cubicBezTo>
                <a:cubicBezTo>
                  <a:pt x="9370" y="12923"/>
                  <a:pt x="9352" y="12956"/>
                  <a:pt x="9401" y="12948"/>
                </a:cubicBezTo>
                <a:cubicBezTo>
                  <a:pt x="9401" y="12793"/>
                  <a:pt x="9382" y="12733"/>
                  <a:pt x="9500" y="12650"/>
                </a:cubicBezTo>
                <a:cubicBezTo>
                  <a:pt x="9586" y="12700"/>
                  <a:pt x="9671" y="12846"/>
                  <a:pt x="9674" y="12849"/>
                </a:cubicBezTo>
                <a:cubicBezTo>
                  <a:pt x="9674" y="12792"/>
                  <a:pt x="9645" y="12531"/>
                  <a:pt x="9798" y="12601"/>
                </a:cubicBezTo>
                <a:cubicBezTo>
                  <a:pt x="9894" y="12645"/>
                  <a:pt x="9929" y="12849"/>
                  <a:pt x="9947" y="12849"/>
                </a:cubicBezTo>
              </a:path>
              <a:path w="5235" h="1887">
                <a:moveTo>
                  <a:pt x="10021" y="12229"/>
                </a:moveTo>
                <a:cubicBezTo>
                  <a:pt x="10039" y="12224"/>
                  <a:pt x="10286" y="12114"/>
                  <a:pt x="10294" y="12204"/>
                </a:cubicBezTo>
                <a:cubicBezTo>
                  <a:pt x="10301" y="12290"/>
                  <a:pt x="10247" y="12342"/>
                  <a:pt x="10220" y="12328"/>
                </a:cubicBezTo>
                <a:cubicBezTo>
                  <a:pt x="10320" y="12328"/>
                  <a:pt x="10354" y="12328"/>
                  <a:pt x="10418" y="12353"/>
                </a:cubicBezTo>
                <a:cubicBezTo>
                  <a:pt x="10383" y="12482"/>
                  <a:pt x="10333" y="12490"/>
                  <a:pt x="10195" y="12502"/>
                </a:cubicBezTo>
              </a:path>
              <a:path w="5235" h="1887">
                <a:moveTo>
                  <a:pt x="5184" y="12750"/>
                </a:moveTo>
                <a:cubicBezTo>
                  <a:pt x="5306" y="12779"/>
                  <a:pt x="5395" y="12920"/>
                  <a:pt x="5457" y="13022"/>
                </a:cubicBezTo>
                <a:cubicBezTo>
                  <a:pt x="5522" y="13152"/>
                  <a:pt x="5541" y="13181"/>
                  <a:pt x="5556" y="13271"/>
                </a:cubicBezTo>
                <a:cubicBezTo>
                  <a:pt x="5583" y="13080"/>
                  <a:pt x="5643" y="12891"/>
                  <a:pt x="5680" y="12700"/>
                </a:cubicBezTo>
                <a:cubicBezTo>
                  <a:pt x="5680" y="12692"/>
                  <a:pt x="5680" y="12683"/>
                  <a:pt x="5680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2040" y="4106880"/>
            <a:ext cx="1063800" cy="974880"/>
          </a:xfrm>
          <a:custGeom>
            <a:avLst/>
            <a:gdLst/>
            <a:ahLst/>
            <a:rect l="l" t="t" r="r" b="b"/>
            <a:pathLst>
              <a:path w="2953" h="2705">
                <a:moveTo>
                  <a:pt x="15280" y="12725"/>
                </a:moveTo>
                <a:cubicBezTo>
                  <a:pt x="15280" y="12750"/>
                  <a:pt x="15280" y="12758"/>
                  <a:pt x="15280" y="12725"/>
                </a:cubicBezTo>
              </a:path>
              <a:path w="2953" h="2705">
                <a:moveTo>
                  <a:pt x="16371" y="12080"/>
                </a:moveTo>
                <a:cubicBezTo>
                  <a:pt x="16365" y="12126"/>
                  <a:pt x="16355" y="12160"/>
                  <a:pt x="16346" y="12204"/>
                </a:cubicBezTo>
                <a:cubicBezTo>
                  <a:pt x="16486" y="12176"/>
                  <a:pt x="16554" y="12113"/>
                  <a:pt x="16644" y="12005"/>
                </a:cubicBezTo>
              </a:path>
              <a:path w="2953" h="2705">
                <a:moveTo>
                  <a:pt x="16446" y="11782"/>
                </a:moveTo>
                <a:cubicBezTo>
                  <a:pt x="16475" y="12000"/>
                  <a:pt x="16495" y="12207"/>
                  <a:pt x="16495" y="12427"/>
                </a:cubicBezTo>
              </a:path>
              <a:path w="2953" h="2705">
                <a:moveTo>
                  <a:pt x="14957" y="13469"/>
                </a:moveTo>
                <a:cubicBezTo>
                  <a:pt x="15601" y="13079"/>
                  <a:pt x="16333" y="12839"/>
                  <a:pt x="16966" y="12452"/>
                </a:cubicBezTo>
                <a:cubicBezTo>
                  <a:pt x="16958" y="12452"/>
                  <a:pt x="16950" y="12452"/>
                  <a:pt x="16942" y="12452"/>
                </a:cubicBezTo>
              </a:path>
              <a:path w="2953" h="2705">
                <a:moveTo>
                  <a:pt x="16942" y="12923"/>
                </a:moveTo>
                <a:cubicBezTo>
                  <a:pt x="16857" y="13128"/>
                  <a:pt x="16841" y="13307"/>
                  <a:pt x="16892" y="13519"/>
                </a:cubicBezTo>
                <a:cubicBezTo>
                  <a:pt x="17039" y="13408"/>
                  <a:pt x="17153" y="13173"/>
                  <a:pt x="16942" y="13022"/>
                </a:cubicBezTo>
                <a:cubicBezTo>
                  <a:pt x="16867" y="13022"/>
                  <a:pt x="16859" y="13022"/>
                  <a:pt x="16818" y="13022"/>
                </a:cubicBezTo>
              </a:path>
              <a:path w="2953" h="2705">
                <a:moveTo>
                  <a:pt x="16073" y="13370"/>
                </a:moveTo>
                <a:cubicBezTo>
                  <a:pt x="16119" y="13294"/>
                  <a:pt x="16209" y="13257"/>
                  <a:pt x="16297" y="13221"/>
                </a:cubicBezTo>
                <a:cubicBezTo>
                  <a:pt x="16274" y="13446"/>
                  <a:pt x="16188" y="13628"/>
                  <a:pt x="16123" y="13841"/>
                </a:cubicBezTo>
                <a:cubicBezTo>
                  <a:pt x="16223" y="13778"/>
                  <a:pt x="16316" y="13687"/>
                  <a:pt x="16421" y="13643"/>
                </a:cubicBezTo>
              </a:path>
              <a:path w="2953" h="2705">
                <a:moveTo>
                  <a:pt x="14089" y="11534"/>
                </a:moveTo>
                <a:cubicBezTo>
                  <a:pt x="14089" y="11539"/>
                  <a:pt x="14217" y="11445"/>
                  <a:pt x="14288" y="11410"/>
                </a:cubicBezTo>
                <a:cubicBezTo>
                  <a:pt x="14311" y="11523"/>
                  <a:pt x="14308" y="11594"/>
                  <a:pt x="14288" y="11708"/>
                </a:cubicBezTo>
                <a:cubicBezTo>
                  <a:pt x="14372" y="11670"/>
                  <a:pt x="14520" y="11642"/>
                  <a:pt x="14412" y="11807"/>
                </a:cubicBezTo>
                <a:cubicBezTo>
                  <a:pt x="14324" y="11894"/>
                  <a:pt x="14305" y="11917"/>
                  <a:pt x="14238" y="11956"/>
                </a:cubicBezTo>
              </a:path>
              <a:path w="2953" h="2705">
                <a:moveTo>
                  <a:pt x="15081" y="13767"/>
                </a:moveTo>
                <a:cubicBezTo>
                  <a:pt x="15183" y="13726"/>
                  <a:pt x="15308" y="13612"/>
                  <a:pt x="15404" y="13543"/>
                </a:cubicBezTo>
                <a:cubicBezTo>
                  <a:pt x="15412" y="13535"/>
                  <a:pt x="15421" y="13527"/>
                  <a:pt x="15429" y="13519"/>
                </a:cubicBezTo>
                <a:cubicBezTo>
                  <a:pt x="15445" y="13715"/>
                  <a:pt x="15444" y="13893"/>
                  <a:pt x="15478" y="14089"/>
                </a:cubicBezTo>
                <a:cubicBezTo>
                  <a:pt x="15478" y="14124"/>
                  <a:pt x="15483" y="14123"/>
                  <a:pt x="15503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0040" y="2786040"/>
            <a:ext cx="177840" cy="30312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14883" y="8062"/>
                </a:moveTo>
                <a:cubicBezTo>
                  <a:pt x="14876" y="8236"/>
                  <a:pt x="14865" y="8408"/>
                  <a:pt x="14858" y="8582"/>
                </a:cubicBezTo>
              </a:path>
              <a:path w="497" h="844">
                <a:moveTo>
                  <a:pt x="14387" y="7764"/>
                </a:moveTo>
                <a:cubicBezTo>
                  <a:pt x="14417" y="7763"/>
                  <a:pt x="14413" y="7977"/>
                  <a:pt x="14436" y="8062"/>
                </a:cubicBezTo>
                <a:cubicBezTo>
                  <a:pt x="14444" y="8078"/>
                  <a:pt x="14453" y="8095"/>
                  <a:pt x="14461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9440" y="6008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22856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2.) Volume = 288 cubic 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eight = 12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idth= 8i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is the length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V=lw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288 = l x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8 x 1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288 = l x 9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l = 288 ÷ 9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l = 3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8800" y="1465200"/>
            <a:ext cx="268200" cy="384120"/>
          </a:xfrm>
          <a:custGeom>
            <a:avLst/>
            <a:gdLst/>
            <a:ahLst/>
            <a:rect l="l" t="t" r="r" b="b"/>
            <a:pathLst>
              <a:path w="745" h="1068">
                <a:moveTo>
                  <a:pt x="5829" y="4093"/>
                </a:moveTo>
                <a:cubicBezTo>
                  <a:pt x="5987" y="4425"/>
                  <a:pt x="6104" y="4774"/>
                  <a:pt x="6300" y="5085"/>
                </a:cubicBezTo>
                <a:cubicBezTo>
                  <a:pt x="6317" y="5102"/>
                  <a:pt x="6333" y="5118"/>
                  <a:pt x="6350" y="5135"/>
                </a:cubicBezTo>
                <a:cubicBezTo>
                  <a:pt x="6363" y="4818"/>
                  <a:pt x="6348" y="4471"/>
                  <a:pt x="6449" y="4167"/>
                </a:cubicBezTo>
                <a:cubicBezTo>
                  <a:pt x="6497" y="4096"/>
                  <a:pt x="6510" y="4073"/>
                  <a:pt x="6573" y="40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2920" y="1339920"/>
            <a:ext cx="928440" cy="428400"/>
          </a:xfrm>
          <a:custGeom>
            <a:avLst/>
            <a:gdLst/>
            <a:ahLst/>
            <a:rect l="l" t="t" r="r" b="b"/>
            <a:pathLst>
              <a:path w="2580" h="1191">
                <a:moveTo>
                  <a:pt x="6896" y="4341"/>
                </a:moveTo>
                <a:cubicBezTo>
                  <a:pt x="7004" y="4294"/>
                  <a:pt x="7107" y="4224"/>
                  <a:pt x="7218" y="4192"/>
                </a:cubicBezTo>
              </a:path>
              <a:path w="2580" h="1191">
                <a:moveTo>
                  <a:pt x="6945" y="4614"/>
                </a:moveTo>
                <a:cubicBezTo>
                  <a:pt x="7084" y="4586"/>
                  <a:pt x="7228" y="4513"/>
                  <a:pt x="7367" y="4465"/>
                </a:cubicBezTo>
              </a:path>
              <a:path w="2580" h="1191">
                <a:moveTo>
                  <a:pt x="7565" y="3721"/>
                </a:moveTo>
                <a:cubicBezTo>
                  <a:pt x="7615" y="4094"/>
                  <a:pt x="7701" y="4462"/>
                  <a:pt x="7739" y="4837"/>
                </a:cubicBezTo>
                <a:cubicBezTo>
                  <a:pt x="7739" y="4912"/>
                  <a:pt x="7739" y="4936"/>
                  <a:pt x="7764" y="4837"/>
                </a:cubicBezTo>
              </a:path>
              <a:path w="2580" h="1191">
                <a:moveTo>
                  <a:pt x="8037" y="4266"/>
                </a:moveTo>
                <a:cubicBezTo>
                  <a:pt x="8037" y="4423"/>
                  <a:pt x="8108" y="4569"/>
                  <a:pt x="8161" y="4713"/>
                </a:cubicBezTo>
                <a:cubicBezTo>
                  <a:pt x="8271" y="5012"/>
                  <a:pt x="8328" y="4590"/>
                  <a:pt x="8359" y="4465"/>
                </a:cubicBezTo>
                <a:cubicBezTo>
                  <a:pt x="8384" y="4628"/>
                  <a:pt x="8423" y="4678"/>
                  <a:pt x="8508" y="4812"/>
                </a:cubicBezTo>
                <a:cubicBezTo>
                  <a:pt x="8785" y="4719"/>
                  <a:pt x="8735" y="4477"/>
                  <a:pt x="8582" y="4217"/>
                </a:cubicBezTo>
                <a:cubicBezTo>
                  <a:pt x="8504" y="4139"/>
                  <a:pt x="8471" y="4136"/>
                  <a:pt x="8483" y="4068"/>
                </a:cubicBezTo>
              </a:path>
              <a:path w="2580" h="1191">
                <a:moveTo>
                  <a:pt x="8756" y="3894"/>
                </a:moveTo>
                <a:cubicBezTo>
                  <a:pt x="8843" y="4164"/>
                  <a:pt x="8908" y="4359"/>
                  <a:pt x="8930" y="4638"/>
                </a:cubicBezTo>
                <a:cubicBezTo>
                  <a:pt x="8845" y="4696"/>
                  <a:pt x="8896" y="4248"/>
                  <a:pt x="8979" y="4118"/>
                </a:cubicBezTo>
                <a:cubicBezTo>
                  <a:pt x="9004" y="4110"/>
                  <a:pt x="9029" y="4101"/>
                  <a:pt x="9054" y="4093"/>
                </a:cubicBezTo>
                <a:cubicBezTo>
                  <a:pt x="9077" y="4154"/>
                  <a:pt x="9196" y="4605"/>
                  <a:pt x="9302" y="4564"/>
                </a:cubicBezTo>
                <a:cubicBezTo>
                  <a:pt x="9401" y="4490"/>
                  <a:pt x="9434" y="4465"/>
                  <a:pt x="9475" y="43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0120" y="2536920"/>
            <a:ext cx="169920" cy="71280"/>
          </a:xfrm>
          <a:custGeom>
            <a:avLst/>
            <a:gdLst/>
            <a:ahLst/>
            <a:rect l="l" t="t" r="r" b="b"/>
            <a:pathLst>
              <a:path w="472" h="199">
                <a:moveTo>
                  <a:pt x="4167" y="7193"/>
                </a:moveTo>
                <a:cubicBezTo>
                  <a:pt x="4245" y="7163"/>
                  <a:pt x="4711" y="6971"/>
                  <a:pt x="4589" y="7094"/>
                </a:cubicBezTo>
                <a:cubicBezTo>
                  <a:pt x="4489" y="7169"/>
                  <a:pt x="4456" y="7195"/>
                  <a:pt x="4366" y="7193"/>
                </a:cubicBezTo>
                <a:cubicBezTo>
                  <a:pt x="4258" y="7193"/>
                  <a:pt x="4469" y="7117"/>
                  <a:pt x="4514" y="7094"/>
                </a:cubicBezTo>
                <a:cubicBezTo>
                  <a:pt x="4522" y="7094"/>
                  <a:pt x="4531" y="7094"/>
                  <a:pt x="4539" y="7094"/>
                </a:cubicBezTo>
                <a:cubicBezTo>
                  <a:pt x="4455" y="7122"/>
                  <a:pt x="4385" y="7184"/>
                  <a:pt x="4316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81120" y="2990880"/>
            <a:ext cx="81000" cy="46080"/>
          </a:xfrm>
          <a:custGeom>
            <a:avLst/>
            <a:gdLst/>
            <a:ahLst/>
            <a:rect l="l" t="t" r="r" b="b"/>
            <a:pathLst>
              <a:path w="225" h="125">
                <a:moveTo>
                  <a:pt x="4390" y="8384"/>
                </a:moveTo>
                <a:cubicBezTo>
                  <a:pt x="4455" y="8376"/>
                  <a:pt x="4603" y="8331"/>
                  <a:pt x="4614" y="8334"/>
                </a:cubicBezTo>
                <a:cubicBezTo>
                  <a:pt x="4575" y="8350"/>
                  <a:pt x="4259" y="8472"/>
                  <a:pt x="4440" y="8384"/>
                </a:cubicBezTo>
                <a:cubicBezTo>
                  <a:pt x="4538" y="8344"/>
                  <a:pt x="4552" y="8328"/>
                  <a:pt x="4614" y="83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71760" y="3394080"/>
            <a:ext cx="107640" cy="44280"/>
          </a:xfrm>
          <a:custGeom>
            <a:avLst/>
            <a:gdLst/>
            <a:ahLst/>
            <a:rect l="l" t="t" r="r" b="b"/>
            <a:pathLst>
              <a:path w="298" h="125">
                <a:moveTo>
                  <a:pt x="4366" y="9550"/>
                </a:moveTo>
                <a:cubicBezTo>
                  <a:pt x="4437" y="9492"/>
                  <a:pt x="4524" y="9451"/>
                  <a:pt x="4614" y="9426"/>
                </a:cubicBezTo>
                <a:cubicBezTo>
                  <a:pt x="4675" y="9409"/>
                  <a:pt x="4490" y="9515"/>
                  <a:pt x="4465" y="9525"/>
                </a:cubicBezTo>
                <a:cubicBezTo>
                  <a:pt x="4528" y="9504"/>
                  <a:pt x="4601" y="9459"/>
                  <a:pt x="4663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32240" y="2830680"/>
            <a:ext cx="2135520" cy="2947680"/>
          </a:xfrm>
          <a:custGeom>
            <a:avLst/>
            <a:gdLst/>
            <a:ahLst/>
            <a:rect l="l" t="t" r="r" b="b"/>
            <a:pathLst>
              <a:path w="5929" h="8187">
                <a:moveTo>
                  <a:pt x="16421" y="10120"/>
                </a:moveTo>
                <a:cubicBezTo>
                  <a:pt x="16755" y="10070"/>
                  <a:pt x="17098" y="10020"/>
                  <a:pt x="17438" y="9996"/>
                </a:cubicBezTo>
                <a:cubicBezTo>
                  <a:pt x="18042" y="9953"/>
                  <a:pt x="18683" y="9973"/>
                  <a:pt x="19273" y="9823"/>
                </a:cubicBezTo>
                <a:cubicBezTo>
                  <a:pt x="19643" y="9729"/>
                  <a:pt x="20080" y="9549"/>
                  <a:pt x="20315" y="9227"/>
                </a:cubicBezTo>
                <a:cubicBezTo>
                  <a:pt x="20466" y="9021"/>
                  <a:pt x="20527" y="8703"/>
                  <a:pt x="20365" y="8483"/>
                </a:cubicBezTo>
                <a:cubicBezTo>
                  <a:pt x="20087" y="8105"/>
                  <a:pt x="19554" y="7988"/>
                  <a:pt x="19124" y="7913"/>
                </a:cubicBezTo>
                <a:cubicBezTo>
                  <a:pt x="18602" y="7821"/>
                  <a:pt x="18053" y="7829"/>
                  <a:pt x="17537" y="7938"/>
                </a:cubicBezTo>
                <a:cubicBezTo>
                  <a:pt x="17196" y="8010"/>
                  <a:pt x="17058" y="8118"/>
                  <a:pt x="16842" y="8359"/>
                </a:cubicBezTo>
                <a:cubicBezTo>
                  <a:pt x="16736" y="8478"/>
                  <a:pt x="16580" y="8627"/>
                  <a:pt x="16520" y="8781"/>
                </a:cubicBezTo>
                <a:cubicBezTo>
                  <a:pt x="16471" y="8907"/>
                  <a:pt x="16433" y="9110"/>
                  <a:pt x="16446" y="9252"/>
                </a:cubicBezTo>
                <a:cubicBezTo>
                  <a:pt x="16458" y="9374"/>
                  <a:pt x="16477" y="9573"/>
                  <a:pt x="16545" y="9674"/>
                </a:cubicBezTo>
                <a:cubicBezTo>
                  <a:pt x="16627" y="9796"/>
                  <a:pt x="16712" y="9889"/>
                  <a:pt x="16842" y="9971"/>
                </a:cubicBezTo>
                <a:cubicBezTo>
                  <a:pt x="16916" y="10017"/>
                  <a:pt x="17021" y="10083"/>
                  <a:pt x="17115" y="10071"/>
                </a:cubicBezTo>
                <a:cubicBezTo>
                  <a:pt x="17246" y="10027"/>
                  <a:pt x="17276" y="10011"/>
                  <a:pt x="17363" y="10021"/>
                </a:cubicBezTo>
              </a:path>
              <a:path w="5929" h="8187">
                <a:moveTo>
                  <a:pt x="15875" y="16024"/>
                </a:moveTo>
                <a:cubicBezTo>
                  <a:pt x="16002" y="16002"/>
                  <a:pt x="16120" y="15982"/>
                  <a:pt x="16247" y="15974"/>
                </a:cubicBezTo>
              </a:path>
              <a:path w="5929" h="8187">
                <a:moveTo>
                  <a:pt x="14536" y="16049"/>
                </a:moveTo>
                <a:lnTo>
                  <a:pt x="14536" y="1604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6120" y="5607000"/>
            <a:ext cx="830160" cy="385920"/>
          </a:xfrm>
          <a:custGeom>
            <a:avLst/>
            <a:gdLst/>
            <a:ahLst/>
            <a:rect l="l" t="t" r="r" b="b"/>
            <a:pathLst>
              <a:path w="2307" h="1068">
                <a:moveTo>
                  <a:pt x="15825" y="15751"/>
                </a:moveTo>
                <a:cubicBezTo>
                  <a:pt x="15908" y="15751"/>
                  <a:pt x="15990" y="15751"/>
                  <a:pt x="16073" y="15751"/>
                </a:cubicBezTo>
              </a:path>
              <a:path w="2307" h="1068">
                <a:moveTo>
                  <a:pt x="13866" y="15801"/>
                </a:moveTo>
                <a:cubicBezTo>
                  <a:pt x="13891" y="15678"/>
                  <a:pt x="13991" y="15639"/>
                  <a:pt x="14089" y="15577"/>
                </a:cubicBezTo>
                <a:cubicBezTo>
                  <a:pt x="14215" y="15716"/>
                  <a:pt x="14224" y="15927"/>
                  <a:pt x="14089" y="16098"/>
                </a:cubicBezTo>
                <a:cubicBezTo>
                  <a:pt x="14007" y="16202"/>
                  <a:pt x="13976" y="16152"/>
                  <a:pt x="13940" y="16098"/>
                </a:cubicBezTo>
                <a:cubicBezTo>
                  <a:pt x="14096" y="15957"/>
                  <a:pt x="14283" y="16007"/>
                  <a:pt x="14288" y="16272"/>
                </a:cubicBezTo>
                <a:cubicBezTo>
                  <a:pt x="14293" y="16571"/>
                  <a:pt x="14030" y="16619"/>
                  <a:pt x="13816" y="16619"/>
                </a:cubicBezTo>
                <a:cubicBezTo>
                  <a:pt x="13760" y="16619"/>
                  <a:pt x="13774" y="16587"/>
                  <a:pt x="13791" y="16570"/>
                </a:cubicBezTo>
              </a:path>
              <a:path w="2307" h="1068">
                <a:moveTo>
                  <a:pt x="14536" y="16272"/>
                </a:moveTo>
                <a:cubicBezTo>
                  <a:pt x="14536" y="16193"/>
                  <a:pt x="14560" y="16512"/>
                  <a:pt x="14560" y="16520"/>
                </a:cubicBezTo>
                <a:cubicBezTo>
                  <a:pt x="14542" y="16577"/>
                  <a:pt x="14516" y="16602"/>
                  <a:pt x="14560" y="16594"/>
                </a:cubicBezTo>
              </a:path>
              <a:path w="2307" h="1068">
                <a:moveTo>
                  <a:pt x="14734" y="16297"/>
                </a:moveTo>
                <a:cubicBezTo>
                  <a:pt x="14744" y="16391"/>
                  <a:pt x="14765" y="16481"/>
                  <a:pt x="14784" y="16570"/>
                </a:cubicBezTo>
                <a:cubicBezTo>
                  <a:pt x="14784" y="16578"/>
                  <a:pt x="14784" y="16586"/>
                  <a:pt x="14784" y="16594"/>
                </a:cubicBezTo>
                <a:cubicBezTo>
                  <a:pt x="14763" y="16491"/>
                  <a:pt x="14745" y="16406"/>
                  <a:pt x="14784" y="16297"/>
                </a:cubicBezTo>
                <a:cubicBezTo>
                  <a:pt x="14815" y="16211"/>
                  <a:pt x="14902" y="16222"/>
                  <a:pt x="14957" y="16272"/>
                </a:cubicBezTo>
                <a:cubicBezTo>
                  <a:pt x="15013" y="16324"/>
                  <a:pt x="15060" y="16464"/>
                  <a:pt x="15081" y="16545"/>
                </a:cubicBezTo>
                <a:cubicBezTo>
                  <a:pt x="15109" y="16651"/>
                  <a:pt x="15206" y="16558"/>
                  <a:pt x="15255" y="165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13240" y="4554360"/>
            <a:ext cx="2982960" cy="223920"/>
          </a:xfrm>
          <a:custGeom>
            <a:avLst/>
            <a:gdLst/>
            <a:ahLst/>
            <a:rect l="l" t="t" r="r" b="b"/>
            <a:pathLst>
              <a:path w="8286" h="622">
                <a:moveTo>
                  <a:pt x="14759" y="13271"/>
                </a:moveTo>
                <a:cubicBezTo>
                  <a:pt x="14941" y="13271"/>
                  <a:pt x="15008" y="13270"/>
                  <a:pt x="15131" y="13246"/>
                </a:cubicBezTo>
              </a:path>
              <a:path w="8286" h="622">
                <a:moveTo>
                  <a:pt x="23044" y="12650"/>
                </a:moveTo>
                <a:lnTo>
                  <a:pt x="23044" y="1265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1000" y="4572000"/>
            <a:ext cx="2063880" cy="839880"/>
          </a:xfrm>
          <a:custGeom>
            <a:avLst/>
            <a:gdLst/>
            <a:ahLst/>
            <a:rect l="l" t="t" r="r" b="b"/>
            <a:pathLst>
              <a:path w="5731" h="2333">
                <a:moveTo>
                  <a:pt x="12923" y="12998"/>
                </a:moveTo>
                <a:cubicBezTo>
                  <a:pt x="12857" y="12998"/>
                  <a:pt x="13026" y="12950"/>
                  <a:pt x="13072" y="12998"/>
                </a:cubicBezTo>
                <a:cubicBezTo>
                  <a:pt x="13284" y="13217"/>
                  <a:pt x="12992" y="13631"/>
                  <a:pt x="12725" y="13618"/>
                </a:cubicBezTo>
                <a:cubicBezTo>
                  <a:pt x="12700" y="13593"/>
                  <a:pt x="12675" y="13568"/>
                  <a:pt x="12650" y="13543"/>
                </a:cubicBezTo>
                <a:cubicBezTo>
                  <a:pt x="12826" y="13380"/>
                  <a:pt x="13021" y="13394"/>
                  <a:pt x="13271" y="13469"/>
                </a:cubicBezTo>
                <a:cubicBezTo>
                  <a:pt x="13287" y="13477"/>
                  <a:pt x="13304" y="13486"/>
                  <a:pt x="13320" y="13494"/>
                </a:cubicBezTo>
              </a:path>
              <a:path w="5731" h="2333">
                <a:moveTo>
                  <a:pt x="13593" y="12849"/>
                </a:moveTo>
                <a:cubicBezTo>
                  <a:pt x="13325" y="13074"/>
                  <a:pt x="13468" y="13109"/>
                  <a:pt x="13667" y="13370"/>
                </a:cubicBezTo>
                <a:cubicBezTo>
                  <a:pt x="13684" y="13395"/>
                  <a:pt x="13700" y="13419"/>
                  <a:pt x="13717" y="13444"/>
                </a:cubicBezTo>
                <a:cubicBezTo>
                  <a:pt x="13505" y="13477"/>
                  <a:pt x="13433" y="13359"/>
                  <a:pt x="13593" y="13171"/>
                </a:cubicBezTo>
                <a:cubicBezTo>
                  <a:pt x="13740" y="13045"/>
                  <a:pt x="13770" y="13016"/>
                  <a:pt x="13866" y="12948"/>
                </a:cubicBezTo>
              </a:path>
              <a:path w="5731" h="2333">
                <a:moveTo>
                  <a:pt x="14312" y="12849"/>
                </a:moveTo>
                <a:cubicBezTo>
                  <a:pt x="14125" y="12905"/>
                  <a:pt x="14114" y="12909"/>
                  <a:pt x="14015" y="13072"/>
                </a:cubicBezTo>
                <a:cubicBezTo>
                  <a:pt x="14137" y="13207"/>
                  <a:pt x="14313" y="13305"/>
                  <a:pt x="14312" y="13469"/>
                </a:cubicBezTo>
                <a:cubicBezTo>
                  <a:pt x="13989" y="13469"/>
                  <a:pt x="14167" y="13269"/>
                  <a:pt x="14288" y="13047"/>
                </a:cubicBezTo>
                <a:cubicBezTo>
                  <a:pt x="14363" y="12915"/>
                  <a:pt x="14375" y="12901"/>
                  <a:pt x="14412" y="12824"/>
                </a:cubicBezTo>
              </a:path>
              <a:path w="5731" h="2333">
                <a:moveTo>
                  <a:pt x="14784" y="13072"/>
                </a:moveTo>
                <a:cubicBezTo>
                  <a:pt x="14893" y="13050"/>
                  <a:pt x="14993" y="13047"/>
                  <a:pt x="15106" y="13047"/>
                </a:cubicBezTo>
              </a:path>
              <a:path w="5731" h="2333">
                <a:moveTo>
                  <a:pt x="16396" y="13047"/>
                </a:moveTo>
                <a:cubicBezTo>
                  <a:pt x="16468" y="12951"/>
                  <a:pt x="16267" y="12864"/>
                  <a:pt x="16197" y="12849"/>
                </a:cubicBezTo>
                <a:cubicBezTo>
                  <a:pt x="15843" y="12773"/>
                  <a:pt x="15879" y="13080"/>
                  <a:pt x="15974" y="13271"/>
                </a:cubicBezTo>
                <a:cubicBezTo>
                  <a:pt x="16203" y="13210"/>
                  <a:pt x="16324" y="13208"/>
                  <a:pt x="16371" y="12948"/>
                </a:cubicBezTo>
                <a:cubicBezTo>
                  <a:pt x="16371" y="13149"/>
                  <a:pt x="16375" y="13344"/>
                  <a:pt x="16346" y="13543"/>
                </a:cubicBezTo>
                <a:cubicBezTo>
                  <a:pt x="16338" y="13576"/>
                  <a:pt x="16329" y="13610"/>
                  <a:pt x="16321" y="13643"/>
                </a:cubicBezTo>
              </a:path>
              <a:path w="5731" h="2333">
                <a:moveTo>
                  <a:pt x="16644" y="12898"/>
                </a:moveTo>
                <a:cubicBezTo>
                  <a:pt x="16715" y="13016"/>
                  <a:pt x="16629" y="13259"/>
                  <a:pt x="16619" y="13419"/>
                </a:cubicBezTo>
                <a:cubicBezTo>
                  <a:pt x="16619" y="13559"/>
                  <a:pt x="16595" y="13592"/>
                  <a:pt x="16669" y="13643"/>
                </a:cubicBezTo>
                <a:cubicBezTo>
                  <a:pt x="16910" y="13597"/>
                  <a:pt x="16992" y="13546"/>
                  <a:pt x="16991" y="13295"/>
                </a:cubicBezTo>
                <a:cubicBezTo>
                  <a:pt x="16820" y="13402"/>
                  <a:pt x="16710" y="13539"/>
                  <a:pt x="16818" y="13692"/>
                </a:cubicBezTo>
              </a:path>
              <a:path w="5731" h="2333">
                <a:moveTo>
                  <a:pt x="17264" y="13618"/>
                </a:moveTo>
                <a:cubicBezTo>
                  <a:pt x="17514" y="13548"/>
                  <a:pt x="17660" y="13483"/>
                  <a:pt x="17760" y="13221"/>
                </a:cubicBezTo>
                <a:cubicBezTo>
                  <a:pt x="17834" y="13027"/>
                  <a:pt x="17817" y="12904"/>
                  <a:pt x="17760" y="12725"/>
                </a:cubicBezTo>
                <a:cubicBezTo>
                  <a:pt x="17555" y="12756"/>
                  <a:pt x="17446" y="13060"/>
                  <a:pt x="17487" y="13295"/>
                </a:cubicBezTo>
                <a:cubicBezTo>
                  <a:pt x="17544" y="13625"/>
                  <a:pt x="17874" y="13639"/>
                  <a:pt x="18132" y="13593"/>
                </a:cubicBezTo>
                <a:cubicBezTo>
                  <a:pt x="18176" y="13571"/>
                  <a:pt x="18188" y="13558"/>
                  <a:pt x="18207" y="13593"/>
                </a:cubicBezTo>
              </a:path>
              <a:path w="5731" h="2333">
                <a:moveTo>
                  <a:pt x="15701" y="13940"/>
                </a:moveTo>
                <a:cubicBezTo>
                  <a:pt x="15813" y="13940"/>
                  <a:pt x="15914" y="13957"/>
                  <a:pt x="16024" y="13965"/>
                </a:cubicBezTo>
                <a:cubicBezTo>
                  <a:pt x="16247" y="13980"/>
                  <a:pt x="16471" y="13974"/>
                  <a:pt x="16694" y="13990"/>
                </a:cubicBezTo>
                <a:cubicBezTo>
                  <a:pt x="16926" y="14006"/>
                  <a:pt x="17155" y="14034"/>
                  <a:pt x="17388" y="14039"/>
                </a:cubicBezTo>
                <a:cubicBezTo>
                  <a:pt x="17394" y="14039"/>
                  <a:pt x="17578" y="14048"/>
                  <a:pt x="17512" y="14064"/>
                </a:cubicBezTo>
                <a:cubicBezTo>
                  <a:pt x="17504" y="14064"/>
                  <a:pt x="17495" y="14064"/>
                  <a:pt x="17487" y="14064"/>
                </a:cubicBezTo>
              </a:path>
              <a:path w="5731" h="2333">
                <a:moveTo>
                  <a:pt x="16421" y="14337"/>
                </a:moveTo>
                <a:cubicBezTo>
                  <a:pt x="16405" y="14234"/>
                  <a:pt x="16353" y="14048"/>
                  <a:pt x="16197" y="14163"/>
                </a:cubicBezTo>
                <a:cubicBezTo>
                  <a:pt x="16063" y="14262"/>
                  <a:pt x="16113" y="14367"/>
                  <a:pt x="16148" y="14486"/>
                </a:cubicBezTo>
                <a:cubicBezTo>
                  <a:pt x="16350" y="14466"/>
                  <a:pt x="16445" y="14455"/>
                  <a:pt x="16470" y="14238"/>
                </a:cubicBezTo>
                <a:cubicBezTo>
                  <a:pt x="16470" y="14221"/>
                  <a:pt x="16470" y="14205"/>
                  <a:pt x="16470" y="14188"/>
                </a:cubicBezTo>
                <a:cubicBezTo>
                  <a:pt x="16470" y="14063"/>
                  <a:pt x="16451" y="14386"/>
                  <a:pt x="16446" y="14511"/>
                </a:cubicBezTo>
                <a:cubicBezTo>
                  <a:pt x="16446" y="14676"/>
                  <a:pt x="16446" y="14709"/>
                  <a:pt x="16446" y="14808"/>
                </a:cubicBezTo>
              </a:path>
              <a:path w="5731" h="2333">
                <a:moveTo>
                  <a:pt x="16694" y="14213"/>
                </a:moveTo>
                <a:cubicBezTo>
                  <a:pt x="16694" y="14307"/>
                  <a:pt x="16675" y="14393"/>
                  <a:pt x="16669" y="14486"/>
                </a:cubicBezTo>
                <a:cubicBezTo>
                  <a:pt x="16659" y="14624"/>
                  <a:pt x="16632" y="14717"/>
                  <a:pt x="16793" y="14734"/>
                </a:cubicBezTo>
                <a:cubicBezTo>
                  <a:pt x="16917" y="14747"/>
                  <a:pt x="17058" y="14703"/>
                  <a:pt x="17115" y="14585"/>
                </a:cubicBezTo>
                <a:cubicBezTo>
                  <a:pt x="17138" y="14518"/>
                  <a:pt x="17149" y="14500"/>
                  <a:pt x="17115" y="14461"/>
                </a:cubicBezTo>
                <a:cubicBezTo>
                  <a:pt x="16995" y="14434"/>
                  <a:pt x="16902" y="14499"/>
                  <a:pt x="16867" y="14635"/>
                </a:cubicBezTo>
                <a:cubicBezTo>
                  <a:pt x="16843" y="14730"/>
                  <a:pt x="16877" y="14722"/>
                  <a:pt x="16892" y="14784"/>
                </a:cubicBezTo>
              </a:path>
              <a:path w="5731" h="2333">
                <a:moveTo>
                  <a:pt x="12477" y="13965"/>
                </a:moveTo>
                <a:cubicBezTo>
                  <a:pt x="12639" y="13965"/>
                  <a:pt x="12814" y="13971"/>
                  <a:pt x="12973" y="13990"/>
                </a:cubicBezTo>
                <a:cubicBezTo>
                  <a:pt x="13387" y="14040"/>
                  <a:pt x="13799" y="14113"/>
                  <a:pt x="14213" y="14163"/>
                </a:cubicBezTo>
                <a:cubicBezTo>
                  <a:pt x="14355" y="14180"/>
                  <a:pt x="14453" y="14183"/>
                  <a:pt x="14585" y="14188"/>
                </a:cubicBezTo>
              </a:path>
              <a:path w="5731" h="2333">
                <a:moveTo>
                  <a:pt x="13370" y="14387"/>
                </a:moveTo>
                <a:cubicBezTo>
                  <a:pt x="13370" y="14296"/>
                  <a:pt x="13302" y="14226"/>
                  <a:pt x="13221" y="14188"/>
                </a:cubicBezTo>
                <a:cubicBezTo>
                  <a:pt x="13079" y="14121"/>
                  <a:pt x="12862" y="14375"/>
                  <a:pt x="12948" y="14511"/>
                </a:cubicBezTo>
                <a:cubicBezTo>
                  <a:pt x="13102" y="14756"/>
                  <a:pt x="13339" y="14444"/>
                  <a:pt x="13395" y="14312"/>
                </a:cubicBezTo>
                <a:cubicBezTo>
                  <a:pt x="13395" y="14304"/>
                  <a:pt x="13395" y="14296"/>
                  <a:pt x="13395" y="14288"/>
                </a:cubicBezTo>
                <a:cubicBezTo>
                  <a:pt x="13395" y="14441"/>
                  <a:pt x="13345" y="14632"/>
                  <a:pt x="13320" y="14784"/>
                </a:cubicBezTo>
                <a:cubicBezTo>
                  <a:pt x="13312" y="14825"/>
                  <a:pt x="13303" y="14867"/>
                  <a:pt x="13295" y="14908"/>
                </a:cubicBezTo>
              </a:path>
              <a:path w="5731" h="2333">
                <a:moveTo>
                  <a:pt x="13692" y="14263"/>
                </a:moveTo>
                <a:cubicBezTo>
                  <a:pt x="13651" y="14368"/>
                  <a:pt x="13604" y="14482"/>
                  <a:pt x="13593" y="14610"/>
                </a:cubicBezTo>
                <a:cubicBezTo>
                  <a:pt x="13584" y="14707"/>
                  <a:pt x="13582" y="14932"/>
                  <a:pt x="13717" y="14957"/>
                </a:cubicBezTo>
                <a:cubicBezTo>
                  <a:pt x="13874" y="14986"/>
                  <a:pt x="14019" y="14885"/>
                  <a:pt x="14064" y="14734"/>
                </a:cubicBezTo>
                <a:cubicBezTo>
                  <a:pt x="14064" y="14673"/>
                  <a:pt x="14073" y="14657"/>
                  <a:pt x="14039" y="14635"/>
                </a:cubicBezTo>
                <a:cubicBezTo>
                  <a:pt x="13855" y="14619"/>
                  <a:pt x="13829" y="14703"/>
                  <a:pt x="13816" y="14883"/>
                </a:cubicBezTo>
                <a:cubicBezTo>
                  <a:pt x="13816" y="14973"/>
                  <a:pt x="13809" y="14999"/>
                  <a:pt x="13866" y="15032"/>
                </a:cubicBezTo>
              </a:path>
              <a:path w="5731" h="2333">
                <a:moveTo>
                  <a:pt x="16594" y="12849"/>
                </a:moveTo>
                <a:cubicBezTo>
                  <a:pt x="16617" y="13190"/>
                  <a:pt x="16683" y="13526"/>
                  <a:pt x="16718" y="13866"/>
                </a:cubicBezTo>
                <a:cubicBezTo>
                  <a:pt x="16727" y="13955"/>
                  <a:pt x="16784" y="14495"/>
                  <a:pt x="16768" y="14511"/>
                </a:cubicBezTo>
                <a:cubicBezTo>
                  <a:pt x="16575" y="14700"/>
                  <a:pt x="16662" y="13983"/>
                  <a:pt x="16619" y="13717"/>
                </a:cubicBezTo>
                <a:cubicBezTo>
                  <a:pt x="16577" y="13395"/>
                  <a:pt x="16566" y="13321"/>
                  <a:pt x="16545" y="13122"/>
                </a:cubicBezTo>
                <a:cubicBezTo>
                  <a:pt x="16499" y="13008"/>
                  <a:pt x="16483" y="12978"/>
                  <a:pt x="16495" y="12898"/>
                </a:cubicBezTo>
                <a:cubicBezTo>
                  <a:pt x="16571" y="13367"/>
                  <a:pt x="16599" y="13837"/>
                  <a:pt x="16619" y="14312"/>
                </a:cubicBezTo>
                <a:cubicBezTo>
                  <a:pt x="16619" y="14420"/>
                  <a:pt x="16619" y="14428"/>
                  <a:pt x="16619" y="144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3160" y="3751200"/>
            <a:ext cx="1820880" cy="981000"/>
          </a:xfrm>
          <a:custGeom>
            <a:avLst/>
            <a:gdLst/>
            <a:ahLst/>
            <a:rect l="l" t="t" r="r" b="b"/>
            <a:pathLst>
              <a:path w="5062" h="2729">
                <a:moveTo>
                  <a:pt x="21134" y="11956"/>
                </a:moveTo>
                <a:cubicBezTo>
                  <a:pt x="21249" y="11838"/>
                  <a:pt x="21300" y="11834"/>
                  <a:pt x="21456" y="11807"/>
                </a:cubicBezTo>
                <a:cubicBezTo>
                  <a:pt x="21538" y="12124"/>
                  <a:pt x="21459" y="12358"/>
                  <a:pt x="21109" y="12502"/>
                </a:cubicBezTo>
                <a:cubicBezTo>
                  <a:pt x="21068" y="12502"/>
                  <a:pt x="21026" y="12502"/>
                  <a:pt x="20985" y="12502"/>
                </a:cubicBezTo>
                <a:cubicBezTo>
                  <a:pt x="21086" y="12292"/>
                  <a:pt x="21274" y="11974"/>
                  <a:pt x="21530" y="12254"/>
                </a:cubicBezTo>
                <a:cubicBezTo>
                  <a:pt x="21569" y="12352"/>
                  <a:pt x="21586" y="12365"/>
                  <a:pt x="21580" y="12427"/>
                </a:cubicBezTo>
              </a:path>
              <a:path w="5062" h="2729">
                <a:moveTo>
                  <a:pt x="22002" y="11658"/>
                </a:moveTo>
                <a:cubicBezTo>
                  <a:pt x="21907" y="11730"/>
                  <a:pt x="21876" y="11751"/>
                  <a:pt x="21853" y="11832"/>
                </a:cubicBezTo>
                <a:cubicBezTo>
                  <a:pt x="21918" y="11975"/>
                  <a:pt x="22209" y="12004"/>
                  <a:pt x="22200" y="12229"/>
                </a:cubicBezTo>
                <a:cubicBezTo>
                  <a:pt x="22175" y="12270"/>
                  <a:pt x="22151" y="12312"/>
                  <a:pt x="22126" y="12353"/>
                </a:cubicBezTo>
                <a:cubicBezTo>
                  <a:pt x="21850" y="12255"/>
                  <a:pt x="21969" y="12053"/>
                  <a:pt x="22101" y="11807"/>
                </a:cubicBezTo>
                <a:cubicBezTo>
                  <a:pt x="22139" y="11751"/>
                  <a:pt x="22156" y="11748"/>
                  <a:pt x="22151" y="11708"/>
                </a:cubicBezTo>
              </a:path>
              <a:path w="5062" h="2729">
                <a:moveTo>
                  <a:pt x="22647" y="11509"/>
                </a:moveTo>
                <a:cubicBezTo>
                  <a:pt x="22548" y="11564"/>
                  <a:pt x="22267" y="11782"/>
                  <a:pt x="22448" y="11931"/>
                </a:cubicBezTo>
                <a:cubicBezTo>
                  <a:pt x="22607" y="12062"/>
                  <a:pt x="22675" y="12003"/>
                  <a:pt x="22771" y="12204"/>
                </a:cubicBezTo>
                <a:cubicBezTo>
                  <a:pt x="22738" y="12229"/>
                  <a:pt x="22704" y="12253"/>
                  <a:pt x="22671" y="12278"/>
                </a:cubicBezTo>
                <a:cubicBezTo>
                  <a:pt x="22414" y="12054"/>
                  <a:pt x="22592" y="11835"/>
                  <a:pt x="22671" y="11509"/>
                </a:cubicBezTo>
                <a:cubicBezTo>
                  <a:pt x="22671" y="11435"/>
                  <a:pt x="22651" y="11434"/>
                  <a:pt x="22572" y="11534"/>
                </a:cubicBezTo>
              </a:path>
              <a:path w="5062" h="2729">
                <a:moveTo>
                  <a:pt x="20811" y="13146"/>
                </a:moveTo>
                <a:cubicBezTo>
                  <a:pt x="20792" y="12918"/>
                  <a:pt x="20753" y="12719"/>
                  <a:pt x="20662" y="12502"/>
                </a:cubicBezTo>
                <a:cubicBezTo>
                  <a:pt x="20567" y="12276"/>
                  <a:pt x="20406" y="12057"/>
                  <a:pt x="20290" y="11857"/>
                </a:cubicBezTo>
                <a:cubicBezTo>
                  <a:pt x="20656" y="11642"/>
                  <a:pt x="21051" y="11586"/>
                  <a:pt x="21456" y="11460"/>
                </a:cubicBezTo>
                <a:cubicBezTo>
                  <a:pt x="22133" y="11249"/>
                  <a:pt x="22828" y="10985"/>
                  <a:pt x="23540" y="10914"/>
                </a:cubicBezTo>
                <a:cubicBezTo>
                  <a:pt x="23540" y="10922"/>
                  <a:pt x="23540" y="10931"/>
                  <a:pt x="23540" y="10939"/>
                </a:cubicBezTo>
              </a:path>
              <a:path w="5062" h="2729">
                <a:moveTo>
                  <a:pt x="19323" y="12378"/>
                </a:moveTo>
                <a:cubicBezTo>
                  <a:pt x="19323" y="12231"/>
                  <a:pt x="19275" y="12213"/>
                  <a:pt x="19149" y="12154"/>
                </a:cubicBezTo>
                <a:cubicBezTo>
                  <a:pt x="19121" y="12194"/>
                  <a:pt x="18860" y="12780"/>
                  <a:pt x="19124" y="12675"/>
                </a:cubicBezTo>
                <a:cubicBezTo>
                  <a:pt x="19277" y="12522"/>
                  <a:pt x="19328" y="12466"/>
                  <a:pt x="19323" y="12303"/>
                </a:cubicBezTo>
                <a:cubicBezTo>
                  <a:pt x="19323" y="12270"/>
                  <a:pt x="19323" y="12237"/>
                  <a:pt x="19323" y="12204"/>
                </a:cubicBezTo>
                <a:cubicBezTo>
                  <a:pt x="19383" y="12474"/>
                  <a:pt x="19494" y="12769"/>
                  <a:pt x="19496" y="13047"/>
                </a:cubicBezTo>
                <a:cubicBezTo>
                  <a:pt x="19488" y="13022"/>
                  <a:pt x="19480" y="12998"/>
                  <a:pt x="19472" y="12973"/>
                </a:cubicBezTo>
              </a:path>
              <a:path w="5062" h="2729">
                <a:moveTo>
                  <a:pt x="19571" y="12154"/>
                </a:moveTo>
                <a:cubicBezTo>
                  <a:pt x="19622" y="12370"/>
                  <a:pt x="19574" y="12686"/>
                  <a:pt x="19695" y="12874"/>
                </a:cubicBezTo>
                <a:cubicBezTo>
                  <a:pt x="19728" y="12890"/>
                  <a:pt x="19761" y="12907"/>
                  <a:pt x="19794" y="12923"/>
                </a:cubicBezTo>
                <a:cubicBezTo>
                  <a:pt x="20006" y="12786"/>
                  <a:pt x="20119" y="12683"/>
                  <a:pt x="20017" y="12452"/>
                </a:cubicBezTo>
                <a:cubicBezTo>
                  <a:pt x="19864" y="12634"/>
                  <a:pt x="19883" y="12769"/>
                  <a:pt x="19943" y="12998"/>
                </a:cubicBezTo>
              </a:path>
              <a:path w="5062" h="2729">
                <a:moveTo>
                  <a:pt x="20960" y="11063"/>
                </a:moveTo>
                <a:cubicBezTo>
                  <a:pt x="20922" y="11152"/>
                  <a:pt x="20931" y="11240"/>
                  <a:pt x="20960" y="11336"/>
                </a:cubicBezTo>
                <a:cubicBezTo>
                  <a:pt x="21044" y="11305"/>
                  <a:pt x="21194" y="11176"/>
                  <a:pt x="21059" y="11088"/>
                </a:cubicBezTo>
                <a:cubicBezTo>
                  <a:pt x="20981" y="11062"/>
                  <a:pt x="20954" y="11056"/>
                  <a:pt x="20910" y="11112"/>
                </a:cubicBezTo>
              </a:path>
              <a:path w="5062" h="2729">
                <a:moveTo>
                  <a:pt x="21555" y="10889"/>
                </a:moveTo>
                <a:cubicBezTo>
                  <a:pt x="21522" y="10946"/>
                  <a:pt x="21512" y="10996"/>
                  <a:pt x="21506" y="11063"/>
                </a:cubicBezTo>
                <a:cubicBezTo>
                  <a:pt x="21602" y="11041"/>
                  <a:pt x="21865" y="10933"/>
                  <a:pt x="21704" y="10790"/>
                </a:cubicBezTo>
                <a:cubicBezTo>
                  <a:pt x="21613" y="10790"/>
                  <a:pt x="21575" y="10800"/>
                  <a:pt x="21530" y="10864"/>
                </a:cubicBezTo>
              </a:path>
              <a:path w="5062" h="2729">
                <a:moveTo>
                  <a:pt x="22076" y="10616"/>
                </a:moveTo>
                <a:cubicBezTo>
                  <a:pt x="22095" y="10544"/>
                  <a:pt x="22206" y="10446"/>
                  <a:pt x="22275" y="10418"/>
                </a:cubicBezTo>
                <a:cubicBezTo>
                  <a:pt x="22300" y="10418"/>
                  <a:pt x="22324" y="10418"/>
                  <a:pt x="22349" y="10418"/>
                </a:cubicBezTo>
                <a:cubicBezTo>
                  <a:pt x="22349" y="10555"/>
                  <a:pt x="22328" y="10663"/>
                  <a:pt x="22225" y="10765"/>
                </a:cubicBezTo>
                <a:cubicBezTo>
                  <a:pt x="22225" y="10740"/>
                  <a:pt x="22225" y="10732"/>
                  <a:pt x="22225" y="10716"/>
                </a:cubicBezTo>
                <a:cubicBezTo>
                  <a:pt x="22338" y="10673"/>
                  <a:pt x="22523" y="10623"/>
                  <a:pt x="22448" y="10840"/>
                </a:cubicBezTo>
                <a:cubicBezTo>
                  <a:pt x="22394" y="10996"/>
                  <a:pt x="22311" y="10994"/>
                  <a:pt x="22175" y="11013"/>
                </a:cubicBezTo>
              </a:path>
              <a:path w="5062" h="2729">
                <a:moveTo>
                  <a:pt x="23044" y="12700"/>
                </a:moveTo>
                <a:cubicBezTo>
                  <a:pt x="23091" y="12700"/>
                  <a:pt x="23069" y="12659"/>
                  <a:pt x="23044" y="12650"/>
                </a:cubicBezTo>
              </a:path>
              <a:path w="5062" h="2729">
                <a:moveTo>
                  <a:pt x="18479" y="11435"/>
                </a:moveTo>
                <a:cubicBezTo>
                  <a:pt x="18500" y="11498"/>
                  <a:pt x="18585" y="11621"/>
                  <a:pt x="18628" y="11708"/>
                </a:cubicBezTo>
                <a:cubicBezTo>
                  <a:pt x="18636" y="11724"/>
                  <a:pt x="18645" y="11741"/>
                  <a:pt x="18653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8120" y="5491080"/>
            <a:ext cx="322200" cy="474840"/>
          </a:xfrm>
          <a:custGeom>
            <a:avLst/>
            <a:gdLst/>
            <a:ahLst/>
            <a:rect l="l" t="t" r="r" b="b"/>
            <a:pathLst>
              <a:path w="894" h="1316">
                <a:moveTo>
                  <a:pt x="16718" y="16545"/>
                </a:moveTo>
                <a:cubicBezTo>
                  <a:pt x="16911" y="16458"/>
                  <a:pt x="17123" y="16213"/>
                  <a:pt x="17239" y="16024"/>
                </a:cubicBezTo>
                <a:cubicBezTo>
                  <a:pt x="17406" y="15752"/>
                  <a:pt x="17549" y="15496"/>
                  <a:pt x="17338" y="15255"/>
                </a:cubicBezTo>
                <a:cubicBezTo>
                  <a:pt x="16996" y="15380"/>
                  <a:pt x="17019" y="15735"/>
                  <a:pt x="17140" y="16098"/>
                </a:cubicBezTo>
                <a:cubicBezTo>
                  <a:pt x="17208" y="16302"/>
                  <a:pt x="17385" y="16493"/>
                  <a:pt x="17587" y="16570"/>
                </a:cubicBezTo>
                <a:cubicBezTo>
                  <a:pt x="17595" y="16570"/>
                  <a:pt x="17603" y="16570"/>
                  <a:pt x="17611" y="165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00960" y="4554360"/>
            <a:ext cx="992160" cy="517680"/>
          </a:xfrm>
          <a:custGeom>
            <a:avLst/>
            <a:gdLst/>
            <a:ahLst/>
            <a:rect l="l" t="t" r="r" b="b"/>
            <a:pathLst>
              <a:path w="2754" h="1440">
                <a:moveTo>
                  <a:pt x="23019" y="12650"/>
                </a:moveTo>
                <a:cubicBezTo>
                  <a:pt x="22872" y="12696"/>
                  <a:pt x="22810" y="12726"/>
                  <a:pt x="22721" y="12849"/>
                </a:cubicBezTo>
                <a:cubicBezTo>
                  <a:pt x="22757" y="12971"/>
                  <a:pt x="22923" y="12947"/>
                  <a:pt x="23044" y="12973"/>
                </a:cubicBezTo>
                <a:cubicBezTo>
                  <a:pt x="23132" y="12995"/>
                  <a:pt x="23158" y="12996"/>
                  <a:pt x="23192" y="13047"/>
                </a:cubicBezTo>
                <a:cubicBezTo>
                  <a:pt x="23145" y="13124"/>
                  <a:pt x="23021" y="13231"/>
                  <a:pt x="22944" y="13097"/>
                </a:cubicBezTo>
                <a:cubicBezTo>
                  <a:pt x="22857" y="12947"/>
                  <a:pt x="22975" y="12808"/>
                  <a:pt x="23019" y="12675"/>
                </a:cubicBezTo>
                <a:cubicBezTo>
                  <a:pt x="23019" y="12667"/>
                  <a:pt x="23019" y="12658"/>
                  <a:pt x="23019" y="12650"/>
                </a:cubicBezTo>
              </a:path>
              <a:path w="2754" h="1440">
                <a:moveTo>
                  <a:pt x="21406" y="13196"/>
                </a:moveTo>
                <a:cubicBezTo>
                  <a:pt x="21450" y="13108"/>
                  <a:pt x="21601" y="12968"/>
                  <a:pt x="21704" y="13097"/>
                </a:cubicBezTo>
                <a:cubicBezTo>
                  <a:pt x="21813" y="13234"/>
                  <a:pt x="21733" y="13561"/>
                  <a:pt x="21530" y="13568"/>
                </a:cubicBezTo>
                <a:cubicBezTo>
                  <a:pt x="21505" y="13552"/>
                  <a:pt x="21481" y="13535"/>
                  <a:pt x="21456" y="13519"/>
                </a:cubicBezTo>
                <a:cubicBezTo>
                  <a:pt x="21557" y="13367"/>
                  <a:pt x="21705" y="13315"/>
                  <a:pt x="21903" y="13345"/>
                </a:cubicBezTo>
                <a:cubicBezTo>
                  <a:pt x="21911" y="13353"/>
                  <a:pt x="21919" y="13362"/>
                  <a:pt x="21927" y="13370"/>
                </a:cubicBezTo>
              </a:path>
              <a:path w="2754" h="1440">
                <a:moveTo>
                  <a:pt x="22051" y="12774"/>
                </a:moveTo>
                <a:cubicBezTo>
                  <a:pt x="21980" y="12870"/>
                  <a:pt x="21957" y="12900"/>
                  <a:pt x="21927" y="12973"/>
                </a:cubicBezTo>
                <a:cubicBezTo>
                  <a:pt x="22061" y="13050"/>
                  <a:pt x="22185" y="13056"/>
                  <a:pt x="22299" y="13171"/>
                </a:cubicBezTo>
                <a:cubicBezTo>
                  <a:pt x="22121" y="13310"/>
                  <a:pt x="22053" y="13276"/>
                  <a:pt x="22101" y="13022"/>
                </a:cubicBezTo>
                <a:cubicBezTo>
                  <a:pt x="22122" y="12912"/>
                  <a:pt x="22243" y="12763"/>
                  <a:pt x="22101" y="12824"/>
                </a:cubicBezTo>
              </a:path>
              <a:path w="2754" h="1440">
                <a:moveTo>
                  <a:pt x="20836" y="13717"/>
                </a:moveTo>
                <a:cubicBezTo>
                  <a:pt x="20933" y="13652"/>
                  <a:pt x="21123" y="13482"/>
                  <a:pt x="21233" y="13469"/>
                </a:cubicBezTo>
                <a:cubicBezTo>
                  <a:pt x="21258" y="13477"/>
                  <a:pt x="21282" y="13486"/>
                  <a:pt x="21307" y="13494"/>
                </a:cubicBezTo>
              </a:path>
              <a:path w="2754" h="1440">
                <a:moveTo>
                  <a:pt x="20861" y="14089"/>
                </a:moveTo>
                <a:cubicBezTo>
                  <a:pt x="21211" y="13959"/>
                  <a:pt x="21554" y="13763"/>
                  <a:pt x="21903" y="13618"/>
                </a:cubicBezTo>
                <a:cubicBezTo>
                  <a:pt x="22425" y="13401"/>
                  <a:pt x="22963" y="13214"/>
                  <a:pt x="23515" y="13097"/>
                </a:cubicBezTo>
              </a:path>
              <a:path w="2754" h="1440">
                <a:moveTo>
                  <a:pt x="23366" y="13618"/>
                </a:moveTo>
                <a:cubicBezTo>
                  <a:pt x="23340" y="13746"/>
                  <a:pt x="23227" y="13846"/>
                  <a:pt x="23242" y="13990"/>
                </a:cubicBezTo>
                <a:cubicBezTo>
                  <a:pt x="23259" y="14015"/>
                  <a:pt x="23275" y="14039"/>
                  <a:pt x="23292" y="14064"/>
                </a:cubicBezTo>
                <a:cubicBezTo>
                  <a:pt x="23461" y="14034"/>
                  <a:pt x="23661" y="13947"/>
                  <a:pt x="23589" y="13717"/>
                </a:cubicBezTo>
                <a:cubicBezTo>
                  <a:pt x="23538" y="13555"/>
                  <a:pt x="23378" y="13648"/>
                  <a:pt x="23292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76240" y="4348080"/>
            <a:ext cx="233640" cy="716040"/>
          </a:xfrm>
          <a:custGeom>
            <a:avLst/>
            <a:gdLst/>
            <a:ahLst/>
            <a:rect l="l" t="t" r="r" b="b"/>
            <a:pathLst>
              <a:path w="646" h="1985">
                <a:moveTo>
                  <a:pt x="5085" y="12799"/>
                </a:moveTo>
                <a:cubicBezTo>
                  <a:pt x="5030" y="12799"/>
                  <a:pt x="5171" y="12745"/>
                  <a:pt x="5209" y="12725"/>
                </a:cubicBezTo>
                <a:cubicBezTo>
                  <a:pt x="5264" y="12696"/>
                  <a:pt x="5323" y="12654"/>
                  <a:pt x="5358" y="12601"/>
                </a:cubicBezTo>
                <a:cubicBezTo>
                  <a:pt x="5385" y="12561"/>
                  <a:pt x="5423" y="12500"/>
                  <a:pt x="5432" y="12452"/>
                </a:cubicBezTo>
                <a:cubicBezTo>
                  <a:pt x="5446" y="12371"/>
                  <a:pt x="5452" y="12327"/>
                  <a:pt x="5432" y="12254"/>
                </a:cubicBezTo>
                <a:cubicBezTo>
                  <a:pt x="5416" y="12196"/>
                  <a:pt x="5438" y="12171"/>
                  <a:pt x="5383" y="12129"/>
                </a:cubicBezTo>
                <a:cubicBezTo>
                  <a:pt x="5337" y="12093"/>
                  <a:pt x="5291" y="12062"/>
                  <a:pt x="5259" y="12129"/>
                </a:cubicBezTo>
                <a:cubicBezTo>
                  <a:pt x="5219" y="12214"/>
                  <a:pt x="5234" y="12311"/>
                  <a:pt x="5234" y="12402"/>
                </a:cubicBezTo>
                <a:cubicBezTo>
                  <a:pt x="5234" y="12505"/>
                  <a:pt x="5288" y="12581"/>
                  <a:pt x="5308" y="12675"/>
                </a:cubicBezTo>
                <a:cubicBezTo>
                  <a:pt x="5329" y="12775"/>
                  <a:pt x="5321" y="12793"/>
                  <a:pt x="5432" y="12799"/>
                </a:cubicBezTo>
                <a:cubicBezTo>
                  <a:pt x="5484" y="12802"/>
                  <a:pt x="5566" y="12779"/>
                  <a:pt x="5581" y="12824"/>
                </a:cubicBezTo>
              </a:path>
              <a:path w="646" h="1985">
                <a:moveTo>
                  <a:pt x="4936" y="14064"/>
                </a:moveTo>
                <a:cubicBezTo>
                  <a:pt x="4936" y="13986"/>
                  <a:pt x="4974" y="14014"/>
                  <a:pt x="5060" y="13965"/>
                </a:cubicBezTo>
                <a:cubicBezTo>
                  <a:pt x="5179" y="13896"/>
                  <a:pt x="5302" y="13797"/>
                  <a:pt x="5358" y="13667"/>
                </a:cubicBezTo>
                <a:cubicBezTo>
                  <a:pt x="5402" y="13563"/>
                  <a:pt x="5427" y="13432"/>
                  <a:pt x="5432" y="13320"/>
                </a:cubicBezTo>
                <a:cubicBezTo>
                  <a:pt x="5435" y="13243"/>
                  <a:pt x="5452" y="13172"/>
                  <a:pt x="5383" y="13122"/>
                </a:cubicBezTo>
                <a:cubicBezTo>
                  <a:pt x="5373" y="13115"/>
                  <a:pt x="5321" y="13122"/>
                  <a:pt x="5308" y="13122"/>
                </a:cubicBezTo>
                <a:cubicBezTo>
                  <a:pt x="5215" y="13268"/>
                  <a:pt x="5180" y="13487"/>
                  <a:pt x="5209" y="13667"/>
                </a:cubicBezTo>
                <a:cubicBezTo>
                  <a:pt x="5223" y="13751"/>
                  <a:pt x="5310" y="13846"/>
                  <a:pt x="5333" y="13891"/>
                </a:cubicBezTo>
                <a:cubicBezTo>
                  <a:pt x="5349" y="13923"/>
                  <a:pt x="5346" y="13905"/>
                  <a:pt x="5358" y="139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4599000"/>
            <a:ext cx="517680" cy="830160"/>
          </a:xfrm>
          <a:custGeom>
            <a:avLst/>
            <a:gdLst/>
            <a:ahLst/>
            <a:rect l="l" t="t" r="r" b="b"/>
            <a:pathLst>
              <a:path w="1440" h="2308">
                <a:moveTo>
                  <a:pt x="6697" y="12849"/>
                </a:moveTo>
                <a:cubicBezTo>
                  <a:pt x="6697" y="12882"/>
                  <a:pt x="6697" y="12915"/>
                  <a:pt x="6697" y="12948"/>
                </a:cubicBezTo>
                <a:cubicBezTo>
                  <a:pt x="6956" y="12948"/>
                  <a:pt x="7209" y="12936"/>
                  <a:pt x="7466" y="12923"/>
                </a:cubicBezTo>
                <a:cubicBezTo>
                  <a:pt x="7609" y="12916"/>
                  <a:pt x="7725" y="12961"/>
                  <a:pt x="7863" y="12973"/>
                </a:cubicBezTo>
                <a:cubicBezTo>
                  <a:pt x="7944" y="12980"/>
                  <a:pt x="8012" y="12960"/>
                  <a:pt x="8086" y="12948"/>
                </a:cubicBezTo>
                <a:cubicBezTo>
                  <a:pt x="8175" y="12933"/>
                  <a:pt x="8136" y="12868"/>
                  <a:pt x="8136" y="12774"/>
                </a:cubicBezTo>
              </a:path>
              <a:path w="1440" h="2308">
                <a:moveTo>
                  <a:pt x="7193" y="13146"/>
                </a:moveTo>
                <a:cubicBezTo>
                  <a:pt x="7172" y="13274"/>
                  <a:pt x="7131" y="13395"/>
                  <a:pt x="7094" y="13519"/>
                </a:cubicBezTo>
                <a:cubicBezTo>
                  <a:pt x="7066" y="13612"/>
                  <a:pt x="6999" y="13777"/>
                  <a:pt x="7069" y="13866"/>
                </a:cubicBezTo>
                <a:cubicBezTo>
                  <a:pt x="7101" y="13907"/>
                  <a:pt x="7194" y="13972"/>
                  <a:pt x="7268" y="13965"/>
                </a:cubicBezTo>
                <a:cubicBezTo>
                  <a:pt x="7322" y="13960"/>
                  <a:pt x="7434" y="13929"/>
                  <a:pt x="7466" y="13891"/>
                </a:cubicBezTo>
                <a:cubicBezTo>
                  <a:pt x="7509" y="13839"/>
                  <a:pt x="7516" y="13780"/>
                  <a:pt x="7516" y="13717"/>
                </a:cubicBezTo>
                <a:cubicBezTo>
                  <a:pt x="7516" y="13624"/>
                  <a:pt x="7481" y="13598"/>
                  <a:pt x="7392" y="13593"/>
                </a:cubicBezTo>
                <a:cubicBezTo>
                  <a:pt x="7313" y="13589"/>
                  <a:pt x="7284" y="13598"/>
                  <a:pt x="7243" y="13667"/>
                </a:cubicBezTo>
                <a:cubicBezTo>
                  <a:pt x="7204" y="13732"/>
                  <a:pt x="7193" y="13792"/>
                  <a:pt x="7193" y="13866"/>
                </a:cubicBezTo>
                <a:cubicBezTo>
                  <a:pt x="7193" y="13922"/>
                  <a:pt x="7178" y="13927"/>
                  <a:pt x="7218" y="13940"/>
                </a:cubicBezTo>
              </a:path>
              <a:path w="1440" h="2308">
                <a:moveTo>
                  <a:pt x="7069" y="14387"/>
                </a:moveTo>
                <a:cubicBezTo>
                  <a:pt x="7052" y="14528"/>
                  <a:pt x="7010" y="14669"/>
                  <a:pt x="6995" y="14808"/>
                </a:cubicBezTo>
                <a:cubicBezTo>
                  <a:pt x="6982" y="14931"/>
                  <a:pt x="7049" y="14982"/>
                  <a:pt x="7144" y="15032"/>
                </a:cubicBezTo>
                <a:cubicBezTo>
                  <a:pt x="7233" y="15078"/>
                  <a:pt x="7302" y="15037"/>
                  <a:pt x="7392" y="15007"/>
                </a:cubicBezTo>
                <a:cubicBezTo>
                  <a:pt x="7476" y="14979"/>
                  <a:pt x="7498" y="14932"/>
                  <a:pt x="7541" y="14858"/>
                </a:cubicBezTo>
                <a:cubicBezTo>
                  <a:pt x="7579" y="14793"/>
                  <a:pt x="7568" y="14767"/>
                  <a:pt x="7516" y="14734"/>
                </a:cubicBezTo>
                <a:cubicBezTo>
                  <a:pt x="7395" y="14657"/>
                  <a:pt x="7407" y="14684"/>
                  <a:pt x="7317" y="14784"/>
                </a:cubicBezTo>
                <a:cubicBezTo>
                  <a:pt x="7266" y="14840"/>
                  <a:pt x="7245" y="14927"/>
                  <a:pt x="7268" y="15007"/>
                </a:cubicBezTo>
                <a:cubicBezTo>
                  <a:pt x="7288" y="15047"/>
                  <a:pt x="7297" y="15073"/>
                  <a:pt x="7293" y="15032"/>
                </a:cubicBezTo>
              </a:path>
              <a:path w="1440" h="2308">
                <a:moveTo>
                  <a:pt x="7144" y="14312"/>
                </a:moveTo>
                <a:cubicBezTo>
                  <a:pt x="7070" y="14404"/>
                  <a:pt x="7068" y="14521"/>
                  <a:pt x="7045" y="14635"/>
                </a:cubicBezTo>
                <a:cubicBezTo>
                  <a:pt x="7019" y="14766"/>
                  <a:pt x="7004" y="14883"/>
                  <a:pt x="7069" y="15007"/>
                </a:cubicBezTo>
                <a:cubicBezTo>
                  <a:pt x="7089" y="15045"/>
                  <a:pt x="7127" y="15047"/>
                  <a:pt x="7144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br>
              <a:rPr sz="20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Use the volume formula to find the missing dimen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V= 3264f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=8f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=17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V= 150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=10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=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8120" y="2286000"/>
          <a:ext cx="13968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1396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048120" y="3352680"/>
          <a:ext cx="1396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3526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8089920" y="3089160"/>
            <a:ext cx="117360" cy="563760"/>
          </a:xfrm>
          <a:custGeom>
            <a:avLst/>
            <a:gdLst/>
            <a:ahLst/>
            <a:rect l="l" t="t" r="r" b="b"/>
            <a:pathLst>
              <a:path w="324" h="1564">
                <a:moveTo>
                  <a:pt x="22746" y="8582"/>
                </a:moveTo>
                <a:cubicBezTo>
                  <a:pt x="22768" y="8694"/>
                  <a:pt x="22782" y="8812"/>
                  <a:pt x="22796" y="8930"/>
                </a:cubicBezTo>
                <a:cubicBezTo>
                  <a:pt x="22796" y="8938"/>
                  <a:pt x="22796" y="8946"/>
                  <a:pt x="22796" y="8954"/>
                </a:cubicBezTo>
              </a:path>
              <a:path w="324" h="1564">
                <a:moveTo>
                  <a:pt x="22523" y="9872"/>
                </a:moveTo>
                <a:cubicBezTo>
                  <a:pt x="22517" y="9903"/>
                  <a:pt x="22414" y="10233"/>
                  <a:pt x="22498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66080" y="1785960"/>
            <a:ext cx="436680" cy="741240"/>
          </a:xfrm>
          <a:custGeom>
            <a:avLst/>
            <a:gdLst/>
            <a:ahLst/>
            <a:rect l="l" t="t" r="r" b="b"/>
            <a:pathLst>
              <a:path w="1216" h="2060">
                <a:moveTo>
                  <a:pt x="22572" y="5680"/>
                </a:moveTo>
                <a:cubicBezTo>
                  <a:pt x="22572" y="5746"/>
                  <a:pt x="22572" y="5845"/>
                  <a:pt x="22572" y="5779"/>
                </a:cubicBezTo>
              </a:path>
              <a:path w="1216" h="2060">
                <a:moveTo>
                  <a:pt x="22771" y="5407"/>
                </a:moveTo>
                <a:cubicBezTo>
                  <a:pt x="22854" y="5407"/>
                  <a:pt x="22936" y="5407"/>
                  <a:pt x="23019" y="5407"/>
                </a:cubicBezTo>
                <a:cubicBezTo>
                  <a:pt x="23019" y="5460"/>
                  <a:pt x="23003" y="5481"/>
                  <a:pt x="22994" y="5531"/>
                </a:cubicBezTo>
                <a:cubicBezTo>
                  <a:pt x="22985" y="5584"/>
                  <a:pt x="22994" y="5651"/>
                  <a:pt x="22994" y="5705"/>
                </a:cubicBezTo>
              </a:path>
              <a:path w="1216" h="2060">
                <a:moveTo>
                  <a:pt x="22572" y="5457"/>
                </a:moveTo>
                <a:cubicBezTo>
                  <a:pt x="22524" y="5554"/>
                  <a:pt x="22523" y="5644"/>
                  <a:pt x="22523" y="5755"/>
                </a:cubicBezTo>
              </a:path>
              <a:path w="1216" h="2060">
                <a:moveTo>
                  <a:pt x="23168" y="5978"/>
                </a:moveTo>
                <a:cubicBezTo>
                  <a:pt x="23054" y="5947"/>
                  <a:pt x="23039" y="5949"/>
                  <a:pt x="22944" y="6028"/>
                </a:cubicBezTo>
                <a:cubicBezTo>
                  <a:pt x="22970" y="6131"/>
                  <a:pt x="23065" y="6177"/>
                  <a:pt x="23118" y="6276"/>
                </a:cubicBezTo>
                <a:cubicBezTo>
                  <a:pt x="23138" y="6314"/>
                  <a:pt x="23040" y="6339"/>
                  <a:pt x="23019" y="6350"/>
                </a:cubicBezTo>
                <a:cubicBezTo>
                  <a:pt x="22990" y="6221"/>
                  <a:pt x="23054" y="6152"/>
                  <a:pt x="23143" y="6052"/>
                </a:cubicBezTo>
                <a:cubicBezTo>
                  <a:pt x="23166" y="6030"/>
                  <a:pt x="23174" y="6025"/>
                  <a:pt x="23168" y="6003"/>
                </a:cubicBezTo>
              </a:path>
              <a:path w="1216" h="2060">
                <a:moveTo>
                  <a:pt x="22547" y="6499"/>
                </a:moveTo>
                <a:cubicBezTo>
                  <a:pt x="22742" y="6499"/>
                  <a:pt x="22950" y="6493"/>
                  <a:pt x="23143" y="6474"/>
                </a:cubicBezTo>
                <a:cubicBezTo>
                  <a:pt x="23234" y="6465"/>
                  <a:pt x="23272" y="6414"/>
                  <a:pt x="23292" y="6474"/>
                </a:cubicBezTo>
              </a:path>
              <a:path w="1216" h="2060">
                <a:moveTo>
                  <a:pt x="23044" y="6648"/>
                </a:moveTo>
                <a:cubicBezTo>
                  <a:pt x="23029" y="6701"/>
                  <a:pt x="22938" y="6831"/>
                  <a:pt x="22969" y="6896"/>
                </a:cubicBezTo>
                <a:cubicBezTo>
                  <a:pt x="23026" y="7014"/>
                  <a:pt x="23244" y="6971"/>
                  <a:pt x="23316" y="6896"/>
                </a:cubicBezTo>
                <a:cubicBezTo>
                  <a:pt x="23324" y="6871"/>
                  <a:pt x="23333" y="6846"/>
                  <a:pt x="23341" y="6821"/>
                </a:cubicBezTo>
                <a:cubicBezTo>
                  <a:pt x="23210" y="6799"/>
                  <a:pt x="23162" y="6813"/>
                  <a:pt x="23118" y="6945"/>
                </a:cubicBezTo>
              </a:path>
              <a:path w="1216" h="2060">
                <a:moveTo>
                  <a:pt x="22374" y="4986"/>
                </a:moveTo>
                <a:cubicBezTo>
                  <a:pt x="22353" y="4965"/>
                  <a:pt x="22297" y="4978"/>
                  <a:pt x="22275" y="5011"/>
                </a:cubicBezTo>
                <a:cubicBezTo>
                  <a:pt x="22240" y="5064"/>
                  <a:pt x="22230" y="5115"/>
                  <a:pt x="22200" y="5135"/>
                </a:cubicBezTo>
                <a:cubicBezTo>
                  <a:pt x="22290" y="5135"/>
                  <a:pt x="22360" y="5111"/>
                  <a:pt x="22423" y="5184"/>
                </a:cubicBezTo>
                <a:cubicBezTo>
                  <a:pt x="22504" y="5277"/>
                  <a:pt x="22391" y="5300"/>
                  <a:pt x="22324" y="5308"/>
                </a:cubicBezTo>
                <a:cubicBezTo>
                  <a:pt x="22291" y="5308"/>
                  <a:pt x="22275" y="5308"/>
                  <a:pt x="22250" y="5308"/>
                </a:cubicBezTo>
              </a:path>
              <a:path w="1216" h="2060">
                <a:moveTo>
                  <a:pt x="22126" y="6697"/>
                </a:moveTo>
                <a:cubicBezTo>
                  <a:pt x="22183" y="6769"/>
                  <a:pt x="22175" y="6885"/>
                  <a:pt x="22175" y="6995"/>
                </a:cubicBezTo>
                <a:cubicBezTo>
                  <a:pt x="22175" y="7003"/>
                  <a:pt x="22175" y="7012"/>
                  <a:pt x="22175" y="7020"/>
                </a:cubicBezTo>
              </a:path>
              <a:path w="1216" h="2060">
                <a:moveTo>
                  <a:pt x="22399" y="6697"/>
                </a:moveTo>
                <a:cubicBezTo>
                  <a:pt x="22457" y="6661"/>
                  <a:pt x="22515" y="6662"/>
                  <a:pt x="22572" y="6672"/>
                </a:cubicBezTo>
                <a:cubicBezTo>
                  <a:pt x="22666" y="6688"/>
                  <a:pt x="22577" y="6777"/>
                  <a:pt x="22547" y="6796"/>
                </a:cubicBezTo>
                <a:cubicBezTo>
                  <a:pt x="22617" y="6801"/>
                  <a:pt x="22785" y="6810"/>
                  <a:pt x="22721" y="6945"/>
                </a:cubicBezTo>
                <a:cubicBezTo>
                  <a:pt x="22671" y="7050"/>
                  <a:pt x="22554" y="7009"/>
                  <a:pt x="22473" y="69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26280" y="2678040"/>
            <a:ext cx="81000" cy="243000"/>
          </a:xfrm>
          <a:custGeom>
            <a:avLst/>
            <a:gdLst/>
            <a:ahLst/>
            <a:rect l="l" t="t" r="r" b="b"/>
            <a:pathLst>
              <a:path w="225" h="671">
                <a:moveTo>
                  <a:pt x="22597" y="7590"/>
                </a:moveTo>
                <a:cubicBezTo>
                  <a:pt x="22597" y="7670"/>
                  <a:pt x="22593" y="7739"/>
                  <a:pt x="22572" y="7813"/>
                </a:cubicBezTo>
                <a:cubicBezTo>
                  <a:pt x="22648" y="7844"/>
                  <a:pt x="22691" y="7772"/>
                  <a:pt x="22771" y="7739"/>
                </a:cubicBezTo>
                <a:cubicBezTo>
                  <a:pt x="22779" y="7739"/>
                  <a:pt x="22788" y="7739"/>
                  <a:pt x="22796" y="7739"/>
                </a:cubicBezTo>
              </a:path>
              <a:path w="225" h="671">
                <a:moveTo>
                  <a:pt x="22771" y="7441"/>
                </a:moveTo>
                <a:cubicBezTo>
                  <a:pt x="22771" y="7664"/>
                  <a:pt x="22771" y="7888"/>
                  <a:pt x="22771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96160" y="3160800"/>
            <a:ext cx="571680" cy="714240"/>
          </a:xfrm>
          <a:custGeom>
            <a:avLst/>
            <a:gdLst/>
            <a:ahLst/>
            <a:rect l="l" t="t" r="r" b="b"/>
            <a:pathLst>
              <a:path w="1589" h="1985">
                <a:moveTo>
                  <a:pt x="22696" y="8880"/>
                </a:moveTo>
                <a:cubicBezTo>
                  <a:pt x="22719" y="8937"/>
                  <a:pt x="22763" y="8981"/>
                  <a:pt x="22820" y="9004"/>
                </a:cubicBezTo>
                <a:cubicBezTo>
                  <a:pt x="22878" y="8935"/>
                  <a:pt x="22925" y="8860"/>
                  <a:pt x="22969" y="8781"/>
                </a:cubicBezTo>
              </a:path>
              <a:path w="1589" h="1985">
                <a:moveTo>
                  <a:pt x="22845" y="9351"/>
                </a:moveTo>
                <a:cubicBezTo>
                  <a:pt x="22838" y="9405"/>
                  <a:pt x="22793" y="9471"/>
                  <a:pt x="22870" y="9475"/>
                </a:cubicBezTo>
                <a:cubicBezTo>
                  <a:pt x="22935" y="9478"/>
                  <a:pt x="22982" y="9461"/>
                  <a:pt x="23044" y="9451"/>
                </a:cubicBezTo>
              </a:path>
              <a:path w="1589" h="1985">
                <a:moveTo>
                  <a:pt x="23019" y="9252"/>
                </a:moveTo>
                <a:cubicBezTo>
                  <a:pt x="23019" y="9372"/>
                  <a:pt x="23030" y="9480"/>
                  <a:pt x="23044" y="9599"/>
                </a:cubicBezTo>
                <a:cubicBezTo>
                  <a:pt x="23044" y="9624"/>
                  <a:pt x="23044" y="9632"/>
                  <a:pt x="23044" y="9599"/>
                </a:cubicBezTo>
              </a:path>
              <a:path w="1589" h="1985">
                <a:moveTo>
                  <a:pt x="22101" y="9773"/>
                </a:moveTo>
                <a:cubicBezTo>
                  <a:pt x="21994" y="9773"/>
                  <a:pt x="21964" y="9754"/>
                  <a:pt x="21903" y="9823"/>
                </a:cubicBezTo>
                <a:cubicBezTo>
                  <a:pt x="21858" y="9867"/>
                  <a:pt x="21841" y="9877"/>
                  <a:pt x="21853" y="9922"/>
                </a:cubicBezTo>
                <a:cubicBezTo>
                  <a:pt x="21779" y="9922"/>
                  <a:pt x="21976" y="9922"/>
                  <a:pt x="21977" y="9922"/>
                </a:cubicBezTo>
                <a:cubicBezTo>
                  <a:pt x="22065" y="9943"/>
                  <a:pt x="22081" y="10132"/>
                  <a:pt x="22002" y="10170"/>
                </a:cubicBezTo>
                <a:cubicBezTo>
                  <a:pt x="21939" y="10200"/>
                  <a:pt x="21851" y="10148"/>
                  <a:pt x="21803" y="10120"/>
                </a:cubicBezTo>
              </a:path>
              <a:path w="1589" h="1985">
                <a:moveTo>
                  <a:pt x="22324" y="9897"/>
                </a:moveTo>
                <a:cubicBezTo>
                  <a:pt x="22300" y="9945"/>
                  <a:pt x="22292" y="9959"/>
                  <a:pt x="22299" y="9996"/>
                </a:cubicBezTo>
                <a:cubicBezTo>
                  <a:pt x="22450" y="9996"/>
                  <a:pt x="22467" y="9995"/>
                  <a:pt x="22597" y="9922"/>
                </a:cubicBezTo>
              </a:path>
              <a:path w="1589" h="1985">
                <a:moveTo>
                  <a:pt x="22721" y="9823"/>
                </a:moveTo>
                <a:cubicBezTo>
                  <a:pt x="22731" y="9873"/>
                  <a:pt x="22745" y="9935"/>
                  <a:pt x="22796" y="9947"/>
                </a:cubicBezTo>
                <a:cubicBezTo>
                  <a:pt x="22957" y="9985"/>
                  <a:pt x="22978" y="9945"/>
                  <a:pt x="23093" y="9847"/>
                </a:cubicBezTo>
              </a:path>
              <a:path w="1589" h="1985">
                <a:moveTo>
                  <a:pt x="23068" y="9748"/>
                </a:moveTo>
                <a:cubicBezTo>
                  <a:pt x="23049" y="9868"/>
                  <a:pt x="23042" y="10002"/>
                  <a:pt x="23019" y="10120"/>
                </a:cubicBezTo>
                <a:cubicBezTo>
                  <a:pt x="23011" y="10137"/>
                  <a:pt x="23002" y="10153"/>
                  <a:pt x="22994" y="10170"/>
                </a:cubicBezTo>
              </a:path>
              <a:path w="1589" h="1985">
                <a:moveTo>
                  <a:pt x="21654" y="10418"/>
                </a:moveTo>
                <a:cubicBezTo>
                  <a:pt x="22086" y="10363"/>
                  <a:pt x="22532" y="10244"/>
                  <a:pt x="22969" y="10244"/>
                </a:cubicBezTo>
                <a:cubicBezTo>
                  <a:pt x="23060" y="10262"/>
                  <a:pt x="23101" y="10237"/>
                  <a:pt x="23093" y="10294"/>
                </a:cubicBezTo>
              </a:path>
              <a:path w="1589" h="1985">
                <a:moveTo>
                  <a:pt x="23168" y="10468"/>
                </a:moveTo>
                <a:cubicBezTo>
                  <a:pt x="23079" y="10480"/>
                  <a:pt x="22944" y="10586"/>
                  <a:pt x="22944" y="10691"/>
                </a:cubicBezTo>
                <a:cubicBezTo>
                  <a:pt x="22961" y="10707"/>
                  <a:pt x="22977" y="10724"/>
                  <a:pt x="22994" y="10740"/>
                </a:cubicBezTo>
                <a:cubicBezTo>
                  <a:pt x="23118" y="10740"/>
                  <a:pt x="23369" y="10676"/>
                  <a:pt x="23192" y="10492"/>
                </a:cubicBezTo>
                <a:cubicBezTo>
                  <a:pt x="23159" y="10476"/>
                  <a:pt x="23126" y="10459"/>
                  <a:pt x="23093" y="104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3200" y="2894040"/>
            <a:ext cx="6475680" cy="384120"/>
          </a:xfrm>
          <a:custGeom>
            <a:avLst/>
            <a:gdLst/>
            <a:ahLst/>
            <a:rect l="l" t="t" r="r" b="b"/>
            <a:pathLst>
              <a:path w="17985" h="1067">
                <a:moveTo>
                  <a:pt x="5333" y="8037"/>
                </a:moveTo>
                <a:lnTo>
                  <a:pt x="5333" y="8037"/>
                </a:lnTo>
              </a:path>
              <a:path w="17985" h="1067">
                <a:moveTo>
                  <a:pt x="6176" y="8086"/>
                </a:moveTo>
                <a:lnTo>
                  <a:pt x="6176" y="8086"/>
                </a:lnTo>
                <a:lnTo>
                  <a:pt x="6176" y="8086"/>
                </a:lnTo>
              </a:path>
              <a:path w="17985" h="1067">
                <a:moveTo>
                  <a:pt x="6176" y="8086"/>
                </a:moveTo>
                <a:lnTo>
                  <a:pt x="6176" y="8086"/>
                </a:lnTo>
              </a:path>
              <a:path w="17985" h="1067">
                <a:moveTo>
                  <a:pt x="3621" y="9029"/>
                </a:moveTo>
                <a:cubicBezTo>
                  <a:pt x="3621" y="9064"/>
                  <a:pt x="3626" y="9081"/>
                  <a:pt x="3646" y="9103"/>
                </a:cubicBezTo>
              </a:path>
              <a:path w="17985" h="1067">
                <a:moveTo>
                  <a:pt x="4787" y="8607"/>
                </a:moveTo>
                <a:cubicBezTo>
                  <a:pt x="4763" y="8721"/>
                  <a:pt x="4766" y="8790"/>
                  <a:pt x="4787" y="8905"/>
                </a:cubicBezTo>
              </a:path>
              <a:path w="17985" h="1067">
                <a:moveTo>
                  <a:pt x="5829" y="8781"/>
                </a:moveTo>
                <a:lnTo>
                  <a:pt x="5829" y="8781"/>
                </a:lnTo>
              </a:path>
              <a:path w="17985" h="1067">
                <a:moveTo>
                  <a:pt x="6772" y="8756"/>
                </a:moveTo>
                <a:cubicBezTo>
                  <a:pt x="6772" y="8748"/>
                  <a:pt x="6772" y="8739"/>
                  <a:pt x="6772" y="8731"/>
                </a:cubicBezTo>
              </a:path>
              <a:path w="17985" h="1067">
                <a:moveTo>
                  <a:pt x="6772" y="8731"/>
                </a:moveTo>
                <a:lnTo>
                  <a:pt x="6772" y="8731"/>
                </a:lnTo>
              </a:path>
              <a:path w="17985" h="1067">
                <a:moveTo>
                  <a:pt x="11633" y="8508"/>
                </a:moveTo>
                <a:cubicBezTo>
                  <a:pt x="11644" y="8592"/>
                  <a:pt x="11663" y="8673"/>
                  <a:pt x="11683" y="8756"/>
                </a:cubicBezTo>
              </a:path>
              <a:path w="17985" h="1067">
                <a:moveTo>
                  <a:pt x="16421" y="8111"/>
                </a:moveTo>
                <a:cubicBezTo>
                  <a:pt x="16476" y="8100"/>
                  <a:pt x="16510" y="8092"/>
                  <a:pt x="16570" y="8086"/>
                </a:cubicBezTo>
              </a:path>
              <a:path w="17985" h="1067">
                <a:moveTo>
                  <a:pt x="16346" y="8235"/>
                </a:moveTo>
                <a:cubicBezTo>
                  <a:pt x="16422" y="8229"/>
                  <a:pt x="16494" y="8218"/>
                  <a:pt x="16570" y="8210"/>
                </a:cubicBezTo>
              </a:path>
              <a:path w="17985" h="1067">
                <a:moveTo>
                  <a:pt x="21580" y="8508"/>
                </a:moveTo>
                <a:cubicBezTo>
                  <a:pt x="21580" y="8553"/>
                  <a:pt x="21576" y="8566"/>
                  <a:pt x="21605" y="8582"/>
                </a:cubicBezTo>
              </a:path>
              <a:path w="17985" h="1067">
                <a:moveTo>
                  <a:pt x="20886" y="9004"/>
                </a:moveTo>
                <a:cubicBezTo>
                  <a:pt x="20991" y="8974"/>
                  <a:pt x="21053" y="8964"/>
                  <a:pt x="21158" y="8979"/>
                </a:cubicBezTo>
              </a:path>
              <a:path w="17985" h="1067">
                <a:moveTo>
                  <a:pt x="15627" y="8186"/>
                </a:moveTo>
                <a:cubicBezTo>
                  <a:pt x="15767" y="8163"/>
                  <a:pt x="15875" y="8145"/>
                  <a:pt x="15999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830680"/>
            <a:ext cx="1465200" cy="447480"/>
          </a:xfrm>
          <a:custGeom>
            <a:avLst/>
            <a:gdLst/>
            <a:ahLst/>
            <a:rect l="l" t="t" r="r" b="b"/>
            <a:pathLst>
              <a:path w="4069" h="1241">
                <a:moveTo>
                  <a:pt x="4192" y="7888"/>
                </a:moveTo>
                <a:cubicBezTo>
                  <a:pt x="4207" y="8053"/>
                  <a:pt x="4256" y="8231"/>
                  <a:pt x="4316" y="8384"/>
                </a:cubicBezTo>
                <a:cubicBezTo>
                  <a:pt x="4324" y="8392"/>
                  <a:pt x="4333" y="8401"/>
                  <a:pt x="4341" y="8409"/>
                </a:cubicBezTo>
                <a:cubicBezTo>
                  <a:pt x="4395" y="8235"/>
                  <a:pt x="4432" y="8060"/>
                  <a:pt x="4490" y="7888"/>
                </a:cubicBezTo>
              </a:path>
              <a:path w="4069" h="1241">
                <a:moveTo>
                  <a:pt x="5060" y="7962"/>
                </a:moveTo>
                <a:cubicBezTo>
                  <a:pt x="5060" y="8053"/>
                  <a:pt x="5060" y="8144"/>
                  <a:pt x="5060" y="8235"/>
                </a:cubicBezTo>
              </a:path>
              <a:path w="4069" h="1241">
                <a:moveTo>
                  <a:pt x="5556" y="7962"/>
                </a:moveTo>
                <a:cubicBezTo>
                  <a:pt x="5556" y="8052"/>
                  <a:pt x="5564" y="8122"/>
                  <a:pt x="5581" y="8210"/>
                </a:cubicBezTo>
                <a:cubicBezTo>
                  <a:pt x="5697" y="8191"/>
                  <a:pt x="5721" y="8135"/>
                  <a:pt x="5779" y="8037"/>
                </a:cubicBezTo>
                <a:cubicBezTo>
                  <a:pt x="5779" y="8120"/>
                  <a:pt x="5794" y="8246"/>
                  <a:pt x="5928" y="8186"/>
                </a:cubicBezTo>
                <a:cubicBezTo>
                  <a:pt x="6051" y="8131"/>
                  <a:pt x="6043" y="8039"/>
                  <a:pt x="5953" y="7987"/>
                </a:cubicBezTo>
              </a:path>
              <a:path w="4069" h="1241">
                <a:moveTo>
                  <a:pt x="6449" y="7863"/>
                </a:moveTo>
                <a:cubicBezTo>
                  <a:pt x="6449" y="7946"/>
                  <a:pt x="6449" y="8028"/>
                  <a:pt x="6449" y="8111"/>
                </a:cubicBezTo>
                <a:cubicBezTo>
                  <a:pt x="6507" y="8039"/>
                  <a:pt x="6536" y="7991"/>
                  <a:pt x="6623" y="7962"/>
                </a:cubicBezTo>
                <a:cubicBezTo>
                  <a:pt x="6670" y="8034"/>
                  <a:pt x="6708" y="8071"/>
                  <a:pt x="6697" y="8136"/>
                </a:cubicBezTo>
              </a:path>
              <a:path w="4069" h="1241">
                <a:moveTo>
                  <a:pt x="3101" y="8706"/>
                </a:moveTo>
                <a:cubicBezTo>
                  <a:pt x="3192" y="8684"/>
                  <a:pt x="3206" y="8593"/>
                  <a:pt x="3324" y="8657"/>
                </a:cubicBezTo>
                <a:cubicBezTo>
                  <a:pt x="3407" y="8702"/>
                  <a:pt x="3299" y="8798"/>
                  <a:pt x="3274" y="8830"/>
                </a:cubicBezTo>
                <a:cubicBezTo>
                  <a:pt x="3327" y="8821"/>
                  <a:pt x="3509" y="8814"/>
                  <a:pt x="3473" y="8930"/>
                </a:cubicBezTo>
                <a:cubicBezTo>
                  <a:pt x="3430" y="9066"/>
                  <a:pt x="3297" y="9071"/>
                  <a:pt x="3200" y="9029"/>
                </a:cubicBezTo>
              </a:path>
              <a:path w="4069" h="1241">
                <a:moveTo>
                  <a:pt x="3696" y="8706"/>
                </a:moveTo>
                <a:cubicBezTo>
                  <a:pt x="3811" y="8686"/>
                  <a:pt x="3975" y="8702"/>
                  <a:pt x="3919" y="8880"/>
                </a:cubicBezTo>
                <a:cubicBezTo>
                  <a:pt x="3902" y="8934"/>
                  <a:pt x="3812" y="8965"/>
                  <a:pt x="3770" y="8979"/>
                </a:cubicBezTo>
                <a:cubicBezTo>
                  <a:pt x="3797" y="8881"/>
                  <a:pt x="3798" y="8884"/>
                  <a:pt x="3894" y="8830"/>
                </a:cubicBezTo>
                <a:cubicBezTo>
                  <a:pt x="3929" y="8877"/>
                  <a:pt x="3974" y="8931"/>
                  <a:pt x="3994" y="8979"/>
                </a:cubicBezTo>
              </a:path>
              <a:path w="4069" h="1241">
                <a:moveTo>
                  <a:pt x="4118" y="8607"/>
                </a:moveTo>
                <a:cubicBezTo>
                  <a:pt x="4137" y="8686"/>
                  <a:pt x="4142" y="8763"/>
                  <a:pt x="4142" y="8855"/>
                </a:cubicBezTo>
                <a:cubicBezTo>
                  <a:pt x="4142" y="8990"/>
                  <a:pt x="4285" y="8980"/>
                  <a:pt x="4366" y="8905"/>
                </a:cubicBezTo>
                <a:cubicBezTo>
                  <a:pt x="4425" y="8826"/>
                  <a:pt x="4450" y="8817"/>
                  <a:pt x="4440" y="8756"/>
                </a:cubicBezTo>
                <a:cubicBezTo>
                  <a:pt x="4384" y="8777"/>
                  <a:pt x="4260" y="8862"/>
                  <a:pt x="4291" y="8954"/>
                </a:cubicBezTo>
                <a:cubicBezTo>
                  <a:pt x="4299" y="8954"/>
                  <a:pt x="4308" y="8954"/>
                  <a:pt x="4316" y="8954"/>
                </a:cubicBezTo>
              </a:path>
              <a:path w="4069" h="1241">
                <a:moveTo>
                  <a:pt x="4539" y="8657"/>
                </a:moveTo>
                <a:cubicBezTo>
                  <a:pt x="4539" y="8700"/>
                  <a:pt x="4533" y="8802"/>
                  <a:pt x="4564" y="8806"/>
                </a:cubicBezTo>
                <a:cubicBezTo>
                  <a:pt x="4698" y="8825"/>
                  <a:pt x="4724" y="8796"/>
                  <a:pt x="4787" y="8706"/>
                </a:cubicBezTo>
              </a:path>
              <a:path w="4069" h="1241">
                <a:moveTo>
                  <a:pt x="5060" y="8682"/>
                </a:moveTo>
                <a:cubicBezTo>
                  <a:pt x="5110" y="8672"/>
                  <a:pt x="5143" y="8632"/>
                  <a:pt x="5159" y="8682"/>
                </a:cubicBezTo>
              </a:path>
              <a:path w="4069" h="1241">
                <a:moveTo>
                  <a:pt x="5035" y="8806"/>
                </a:moveTo>
                <a:cubicBezTo>
                  <a:pt x="5076" y="8806"/>
                  <a:pt x="5118" y="8806"/>
                  <a:pt x="5159" y="8806"/>
                </a:cubicBezTo>
              </a:path>
              <a:path w="4069" h="1241">
                <a:moveTo>
                  <a:pt x="5606" y="8558"/>
                </a:moveTo>
                <a:cubicBezTo>
                  <a:pt x="5546" y="8581"/>
                  <a:pt x="5486" y="8637"/>
                  <a:pt x="5432" y="8682"/>
                </a:cubicBezTo>
                <a:cubicBezTo>
                  <a:pt x="5523" y="8780"/>
                  <a:pt x="5631" y="8859"/>
                  <a:pt x="5482" y="8954"/>
                </a:cubicBezTo>
                <a:cubicBezTo>
                  <a:pt x="5474" y="8954"/>
                  <a:pt x="5465" y="8954"/>
                  <a:pt x="5457" y="8954"/>
                </a:cubicBezTo>
                <a:cubicBezTo>
                  <a:pt x="5475" y="8812"/>
                  <a:pt x="5505" y="8743"/>
                  <a:pt x="5606" y="8632"/>
                </a:cubicBezTo>
                <a:cubicBezTo>
                  <a:pt x="5614" y="8624"/>
                  <a:pt x="5623" y="8615"/>
                  <a:pt x="5631" y="8607"/>
                </a:cubicBezTo>
              </a:path>
              <a:path w="4069" h="1241">
                <a:moveTo>
                  <a:pt x="6077" y="8582"/>
                </a:moveTo>
                <a:cubicBezTo>
                  <a:pt x="6077" y="8678"/>
                  <a:pt x="6087" y="8763"/>
                  <a:pt x="6102" y="8855"/>
                </a:cubicBezTo>
                <a:cubicBezTo>
                  <a:pt x="6102" y="8888"/>
                  <a:pt x="6102" y="8888"/>
                  <a:pt x="6102" y="8830"/>
                </a:cubicBezTo>
              </a:path>
              <a:path w="4069" h="1241">
                <a:moveTo>
                  <a:pt x="6251" y="8558"/>
                </a:moveTo>
                <a:cubicBezTo>
                  <a:pt x="6343" y="8558"/>
                  <a:pt x="6471" y="8556"/>
                  <a:pt x="6524" y="8582"/>
                </a:cubicBezTo>
                <a:cubicBezTo>
                  <a:pt x="6582" y="8611"/>
                  <a:pt x="6531" y="8721"/>
                  <a:pt x="6524" y="8781"/>
                </a:cubicBezTo>
                <a:cubicBezTo>
                  <a:pt x="6520" y="8812"/>
                  <a:pt x="6524" y="8848"/>
                  <a:pt x="6524" y="8880"/>
                </a:cubicBezTo>
              </a:path>
              <a:path w="4069" h="1241">
                <a:moveTo>
                  <a:pt x="6995" y="8558"/>
                </a:moveTo>
                <a:cubicBezTo>
                  <a:pt x="6976" y="8630"/>
                  <a:pt x="6988" y="8695"/>
                  <a:pt x="6995" y="8781"/>
                </a:cubicBezTo>
                <a:cubicBezTo>
                  <a:pt x="6995" y="8855"/>
                  <a:pt x="6995" y="8658"/>
                  <a:pt x="6995" y="8657"/>
                </a:cubicBezTo>
                <a:cubicBezTo>
                  <a:pt x="7003" y="8649"/>
                  <a:pt x="7012" y="8640"/>
                  <a:pt x="7020" y="8632"/>
                </a:cubicBezTo>
                <a:cubicBezTo>
                  <a:pt x="7138" y="8647"/>
                  <a:pt x="7155" y="8691"/>
                  <a:pt x="7169" y="8806"/>
                </a:cubicBezTo>
                <a:cubicBezTo>
                  <a:pt x="7169" y="8814"/>
                  <a:pt x="7169" y="8822"/>
                  <a:pt x="7169" y="8830"/>
                </a:cubicBezTo>
              </a:path>
              <a:path w="4069" h="1241">
                <a:moveTo>
                  <a:pt x="5655" y="9054"/>
                </a:moveTo>
                <a:cubicBezTo>
                  <a:pt x="5655" y="9082"/>
                  <a:pt x="5653" y="9092"/>
                  <a:pt x="5631" y="9103"/>
                </a:cubicBezTo>
                <a:cubicBezTo>
                  <a:pt x="5772" y="9086"/>
                  <a:pt x="5903" y="9057"/>
                  <a:pt x="6052" y="9054"/>
                </a:cubicBezTo>
                <a:cubicBezTo>
                  <a:pt x="6190" y="9051"/>
                  <a:pt x="6140" y="9073"/>
                  <a:pt x="6201" y="9004"/>
                </a:cubicBezTo>
                <a:cubicBezTo>
                  <a:pt x="6224" y="8981"/>
                  <a:pt x="6232" y="8977"/>
                  <a:pt x="6226" y="89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1000" y="2820960"/>
            <a:ext cx="1332000" cy="393840"/>
          </a:xfrm>
          <a:custGeom>
            <a:avLst/>
            <a:gdLst/>
            <a:ahLst/>
            <a:rect l="l" t="t" r="r" b="b"/>
            <a:pathLst>
              <a:path w="3697" h="1093">
                <a:moveTo>
                  <a:pt x="9376" y="7987"/>
                </a:moveTo>
                <a:cubicBezTo>
                  <a:pt x="9385" y="7974"/>
                  <a:pt x="9484" y="7909"/>
                  <a:pt x="9525" y="7913"/>
                </a:cubicBezTo>
                <a:cubicBezTo>
                  <a:pt x="9580" y="7919"/>
                  <a:pt x="9477" y="8058"/>
                  <a:pt x="9475" y="8062"/>
                </a:cubicBezTo>
                <a:cubicBezTo>
                  <a:pt x="9502" y="8102"/>
                  <a:pt x="9599" y="8134"/>
                  <a:pt x="9599" y="8235"/>
                </a:cubicBezTo>
                <a:cubicBezTo>
                  <a:pt x="9599" y="8310"/>
                  <a:pt x="9472" y="8419"/>
                  <a:pt x="9401" y="8359"/>
                </a:cubicBezTo>
                <a:cubicBezTo>
                  <a:pt x="9401" y="8351"/>
                  <a:pt x="9401" y="8342"/>
                  <a:pt x="9401" y="8334"/>
                </a:cubicBezTo>
              </a:path>
              <a:path w="3697" h="1093">
                <a:moveTo>
                  <a:pt x="9748" y="8235"/>
                </a:moveTo>
                <a:cubicBezTo>
                  <a:pt x="9765" y="8297"/>
                  <a:pt x="9773" y="8323"/>
                  <a:pt x="9773" y="8384"/>
                </a:cubicBezTo>
              </a:path>
              <a:path w="3697" h="1093">
                <a:moveTo>
                  <a:pt x="9847" y="7962"/>
                </a:moveTo>
                <a:cubicBezTo>
                  <a:pt x="9944" y="7977"/>
                  <a:pt x="10172" y="8033"/>
                  <a:pt x="10071" y="8186"/>
                </a:cubicBezTo>
                <a:cubicBezTo>
                  <a:pt x="10014" y="8273"/>
                  <a:pt x="9939" y="8227"/>
                  <a:pt x="9922" y="8161"/>
                </a:cubicBezTo>
                <a:cubicBezTo>
                  <a:pt x="10027" y="8140"/>
                  <a:pt x="10057" y="8175"/>
                  <a:pt x="10145" y="8210"/>
                </a:cubicBezTo>
              </a:path>
              <a:path w="3697" h="1093">
                <a:moveTo>
                  <a:pt x="10269" y="7913"/>
                </a:moveTo>
                <a:cubicBezTo>
                  <a:pt x="10269" y="7989"/>
                  <a:pt x="10220" y="8176"/>
                  <a:pt x="10344" y="8186"/>
                </a:cubicBezTo>
                <a:cubicBezTo>
                  <a:pt x="10430" y="8193"/>
                  <a:pt x="10475" y="8115"/>
                  <a:pt x="10517" y="8062"/>
                </a:cubicBezTo>
                <a:cubicBezTo>
                  <a:pt x="10464" y="8062"/>
                  <a:pt x="10399" y="8091"/>
                  <a:pt x="10418" y="8161"/>
                </a:cubicBezTo>
                <a:cubicBezTo>
                  <a:pt x="10443" y="8186"/>
                  <a:pt x="10451" y="8194"/>
                  <a:pt x="10468" y="8210"/>
                </a:cubicBezTo>
              </a:path>
              <a:path w="3697" h="1093">
                <a:moveTo>
                  <a:pt x="10641" y="7913"/>
                </a:moveTo>
                <a:cubicBezTo>
                  <a:pt x="10641" y="7959"/>
                  <a:pt x="10637" y="8022"/>
                  <a:pt x="10666" y="8037"/>
                </a:cubicBezTo>
                <a:cubicBezTo>
                  <a:pt x="10726" y="8068"/>
                  <a:pt x="10776" y="8062"/>
                  <a:pt x="10840" y="8062"/>
                </a:cubicBezTo>
              </a:path>
              <a:path w="3697" h="1093">
                <a:moveTo>
                  <a:pt x="10815" y="7838"/>
                </a:moveTo>
                <a:cubicBezTo>
                  <a:pt x="10774" y="7947"/>
                  <a:pt x="10796" y="8045"/>
                  <a:pt x="10815" y="8161"/>
                </a:cubicBezTo>
                <a:cubicBezTo>
                  <a:pt x="10815" y="8169"/>
                  <a:pt x="10815" y="8178"/>
                  <a:pt x="10815" y="8186"/>
                </a:cubicBezTo>
              </a:path>
              <a:path w="3697" h="1093">
                <a:moveTo>
                  <a:pt x="11038" y="7987"/>
                </a:moveTo>
                <a:cubicBezTo>
                  <a:pt x="11112" y="7987"/>
                  <a:pt x="11187" y="7987"/>
                  <a:pt x="11261" y="7987"/>
                </a:cubicBezTo>
              </a:path>
              <a:path w="3697" h="1093">
                <a:moveTo>
                  <a:pt x="11137" y="8086"/>
                </a:moveTo>
                <a:cubicBezTo>
                  <a:pt x="11187" y="8086"/>
                  <a:pt x="11236" y="8086"/>
                  <a:pt x="11286" y="8086"/>
                </a:cubicBezTo>
              </a:path>
              <a:path w="3697" h="1093">
                <a:moveTo>
                  <a:pt x="11509" y="7938"/>
                </a:moveTo>
                <a:cubicBezTo>
                  <a:pt x="11519" y="7999"/>
                  <a:pt x="11533" y="8109"/>
                  <a:pt x="11559" y="8161"/>
                </a:cubicBezTo>
                <a:cubicBezTo>
                  <a:pt x="11567" y="8169"/>
                  <a:pt x="11576" y="8178"/>
                  <a:pt x="11584" y="8186"/>
                </a:cubicBezTo>
              </a:path>
              <a:path w="3697" h="1093">
                <a:moveTo>
                  <a:pt x="11683" y="7913"/>
                </a:moveTo>
                <a:cubicBezTo>
                  <a:pt x="11746" y="7913"/>
                  <a:pt x="11829" y="7893"/>
                  <a:pt x="11881" y="7938"/>
                </a:cubicBezTo>
                <a:cubicBezTo>
                  <a:pt x="11907" y="7961"/>
                  <a:pt x="11802" y="8042"/>
                  <a:pt x="11782" y="8062"/>
                </a:cubicBezTo>
                <a:cubicBezTo>
                  <a:pt x="11909" y="8041"/>
                  <a:pt x="11979" y="8052"/>
                  <a:pt x="12030" y="8186"/>
                </a:cubicBezTo>
                <a:cubicBezTo>
                  <a:pt x="12061" y="8269"/>
                  <a:pt x="11851" y="8239"/>
                  <a:pt x="11832" y="8235"/>
                </a:cubicBezTo>
                <a:cubicBezTo>
                  <a:pt x="11802" y="8176"/>
                  <a:pt x="11803" y="8153"/>
                  <a:pt x="11881" y="8136"/>
                </a:cubicBezTo>
              </a:path>
              <a:path w="3697" h="1093">
                <a:moveTo>
                  <a:pt x="12129" y="7938"/>
                </a:moveTo>
                <a:cubicBezTo>
                  <a:pt x="12129" y="8020"/>
                  <a:pt x="12122" y="8086"/>
                  <a:pt x="12154" y="8161"/>
                </a:cubicBezTo>
                <a:cubicBezTo>
                  <a:pt x="12195" y="8258"/>
                  <a:pt x="12317" y="8262"/>
                  <a:pt x="12402" y="8210"/>
                </a:cubicBezTo>
                <a:cubicBezTo>
                  <a:pt x="12432" y="8192"/>
                  <a:pt x="12441" y="8150"/>
                  <a:pt x="12452" y="8111"/>
                </a:cubicBezTo>
                <a:cubicBezTo>
                  <a:pt x="12387" y="8095"/>
                  <a:pt x="12396" y="8059"/>
                  <a:pt x="12353" y="8136"/>
                </a:cubicBezTo>
                <a:cubicBezTo>
                  <a:pt x="12327" y="8182"/>
                  <a:pt x="12308" y="8220"/>
                  <a:pt x="12353" y="8235"/>
                </a:cubicBezTo>
              </a:path>
              <a:path w="3697" h="1093">
                <a:moveTo>
                  <a:pt x="12576" y="7888"/>
                </a:moveTo>
                <a:cubicBezTo>
                  <a:pt x="12591" y="7980"/>
                  <a:pt x="12619" y="8073"/>
                  <a:pt x="12650" y="8161"/>
                </a:cubicBezTo>
                <a:cubicBezTo>
                  <a:pt x="12656" y="8119"/>
                  <a:pt x="12665" y="7964"/>
                  <a:pt x="12725" y="8037"/>
                </a:cubicBezTo>
                <a:cubicBezTo>
                  <a:pt x="12804" y="8133"/>
                  <a:pt x="12738" y="8165"/>
                  <a:pt x="12874" y="8186"/>
                </a:cubicBezTo>
                <a:cubicBezTo>
                  <a:pt x="12890" y="8186"/>
                  <a:pt x="12907" y="8186"/>
                  <a:pt x="12923" y="8186"/>
                </a:cubicBezTo>
              </a:path>
              <a:path w="3697" h="1093">
                <a:moveTo>
                  <a:pt x="11584" y="8409"/>
                </a:moveTo>
                <a:cubicBezTo>
                  <a:pt x="11838" y="8366"/>
                  <a:pt x="12095" y="8394"/>
                  <a:pt x="12353" y="8359"/>
                </a:cubicBezTo>
                <a:cubicBezTo>
                  <a:pt x="12502" y="8339"/>
                  <a:pt x="12900" y="8310"/>
                  <a:pt x="12750" y="8310"/>
                </a:cubicBezTo>
              </a:path>
              <a:path w="3697" h="1093">
                <a:moveTo>
                  <a:pt x="11757" y="8533"/>
                </a:moveTo>
                <a:cubicBezTo>
                  <a:pt x="11826" y="8521"/>
                  <a:pt x="11924" y="8467"/>
                  <a:pt x="11981" y="8533"/>
                </a:cubicBezTo>
                <a:cubicBezTo>
                  <a:pt x="12013" y="8569"/>
                  <a:pt x="11833" y="8607"/>
                  <a:pt x="11881" y="8607"/>
                </a:cubicBezTo>
                <a:cubicBezTo>
                  <a:pt x="11889" y="8607"/>
                  <a:pt x="11898" y="8607"/>
                  <a:pt x="11906" y="8607"/>
                </a:cubicBezTo>
                <a:cubicBezTo>
                  <a:pt x="11973" y="8614"/>
                  <a:pt x="12023" y="8624"/>
                  <a:pt x="12080" y="8657"/>
                </a:cubicBezTo>
                <a:cubicBezTo>
                  <a:pt x="11991" y="8775"/>
                  <a:pt x="11958" y="8769"/>
                  <a:pt x="11832" y="8706"/>
                </a:cubicBezTo>
              </a:path>
              <a:path w="3697" h="1093">
                <a:moveTo>
                  <a:pt x="12254" y="8483"/>
                </a:moveTo>
                <a:cubicBezTo>
                  <a:pt x="12294" y="8553"/>
                  <a:pt x="12253" y="8631"/>
                  <a:pt x="12278" y="8706"/>
                </a:cubicBezTo>
                <a:cubicBezTo>
                  <a:pt x="12320" y="8832"/>
                  <a:pt x="12505" y="8730"/>
                  <a:pt x="12551" y="8682"/>
                </a:cubicBezTo>
                <a:cubicBezTo>
                  <a:pt x="12571" y="8641"/>
                  <a:pt x="12580" y="8635"/>
                  <a:pt x="12576" y="8607"/>
                </a:cubicBezTo>
                <a:cubicBezTo>
                  <a:pt x="12473" y="8620"/>
                  <a:pt x="12482" y="8649"/>
                  <a:pt x="12427" y="8731"/>
                </a:cubicBezTo>
              </a:path>
              <a:path w="3697" h="1093">
                <a:moveTo>
                  <a:pt x="9227" y="8558"/>
                </a:moveTo>
                <a:cubicBezTo>
                  <a:pt x="9440" y="8540"/>
                  <a:pt x="9657" y="8515"/>
                  <a:pt x="9872" y="8508"/>
                </a:cubicBezTo>
                <a:cubicBezTo>
                  <a:pt x="10164" y="8499"/>
                  <a:pt x="10449" y="8482"/>
                  <a:pt x="10740" y="8458"/>
                </a:cubicBezTo>
                <a:cubicBezTo>
                  <a:pt x="10748" y="8458"/>
                  <a:pt x="10757" y="8458"/>
                  <a:pt x="10765" y="8458"/>
                </a:cubicBezTo>
              </a:path>
              <a:path w="3697" h="1093">
                <a:moveTo>
                  <a:pt x="9699" y="8632"/>
                </a:moveTo>
                <a:cubicBezTo>
                  <a:pt x="9699" y="8723"/>
                  <a:pt x="9691" y="8803"/>
                  <a:pt x="9723" y="8880"/>
                </a:cubicBezTo>
              </a:path>
              <a:path w="3697" h="1093">
                <a:moveTo>
                  <a:pt x="9847" y="8657"/>
                </a:moveTo>
                <a:cubicBezTo>
                  <a:pt x="9932" y="8646"/>
                  <a:pt x="10010" y="8632"/>
                  <a:pt x="10096" y="8632"/>
                </a:cubicBezTo>
                <a:cubicBezTo>
                  <a:pt x="10062" y="8673"/>
                  <a:pt x="9978" y="8744"/>
                  <a:pt x="10021" y="8756"/>
                </a:cubicBezTo>
                <a:cubicBezTo>
                  <a:pt x="10098" y="8776"/>
                  <a:pt x="10116" y="8768"/>
                  <a:pt x="10145" y="8806"/>
                </a:cubicBezTo>
                <a:cubicBezTo>
                  <a:pt x="10080" y="8924"/>
                  <a:pt x="10065" y="8930"/>
                  <a:pt x="9922" y="8930"/>
                </a:cubicBezTo>
              </a:path>
              <a:path w="3697" h="1093">
                <a:moveTo>
                  <a:pt x="10294" y="8632"/>
                </a:moveTo>
                <a:cubicBezTo>
                  <a:pt x="10294" y="8715"/>
                  <a:pt x="10262" y="8829"/>
                  <a:pt x="10344" y="8880"/>
                </a:cubicBezTo>
                <a:cubicBezTo>
                  <a:pt x="10457" y="8950"/>
                  <a:pt x="10540" y="8839"/>
                  <a:pt x="10592" y="8756"/>
                </a:cubicBezTo>
                <a:cubicBezTo>
                  <a:pt x="10555" y="8741"/>
                  <a:pt x="10443" y="8749"/>
                  <a:pt x="10443" y="8830"/>
                </a:cubicBezTo>
                <a:cubicBezTo>
                  <a:pt x="10451" y="8847"/>
                  <a:pt x="10460" y="8863"/>
                  <a:pt x="10468" y="8880"/>
                </a:cubicBezTo>
              </a:path>
              <a:path w="3697" h="1093">
                <a:moveTo>
                  <a:pt x="11931" y="7838"/>
                </a:moveTo>
                <a:cubicBezTo>
                  <a:pt x="11997" y="8102"/>
                  <a:pt x="12015" y="8362"/>
                  <a:pt x="12030" y="8632"/>
                </a:cubicBezTo>
                <a:cubicBezTo>
                  <a:pt x="12030" y="8706"/>
                  <a:pt x="12030" y="8715"/>
                  <a:pt x="12030" y="8756"/>
                </a:cubicBezTo>
                <a:cubicBezTo>
                  <a:pt x="12006" y="8615"/>
                  <a:pt x="12005" y="8481"/>
                  <a:pt x="12005" y="8334"/>
                </a:cubicBezTo>
                <a:cubicBezTo>
                  <a:pt x="12005" y="8152"/>
                  <a:pt x="12005" y="8103"/>
                  <a:pt x="12005" y="7987"/>
                </a:cubicBezTo>
                <a:cubicBezTo>
                  <a:pt x="11950" y="7893"/>
                  <a:pt x="11993" y="8101"/>
                  <a:pt x="12005" y="8210"/>
                </a:cubicBezTo>
                <a:cubicBezTo>
                  <a:pt x="12026" y="8401"/>
                  <a:pt x="12055" y="8589"/>
                  <a:pt x="12055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97320" y="2732040"/>
            <a:ext cx="1054080" cy="465120"/>
          </a:xfrm>
          <a:custGeom>
            <a:avLst/>
            <a:gdLst/>
            <a:ahLst/>
            <a:rect l="l" t="t" r="r" b="b"/>
            <a:pathLst>
              <a:path w="2928" h="1291">
                <a:moveTo>
                  <a:pt x="16793" y="7913"/>
                </a:moveTo>
                <a:cubicBezTo>
                  <a:pt x="16801" y="8042"/>
                  <a:pt x="16801" y="8197"/>
                  <a:pt x="16842" y="8310"/>
                </a:cubicBezTo>
                <a:cubicBezTo>
                  <a:pt x="16849" y="8265"/>
                  <a:pt x="16885" y="8086"/>
                  <a:pt x="16917" y="8062"/>
                </a:cubicBezTo>
                <a:cubicBezTo>
                  <a:pt x="16989" y="8008"/>
                  <a:pt x="17118" y="8092"/>
                  <a:pt x="17140" y="8161"/>
                </a:cubicBezTo>
                <a:cubicBezTo>
                  <a:pt x="17162" y="8229"/>
                  <a:pt x="17084" y="8348"/>
                  <a:pt x="17214" y="8310"/>
                </a:cubicBezTo>
                <a:cubicBezTo>
                  <a:pt x="17222" y="8302"/>
                  <a:pt x="17231" y="8293"/>
                  <a:pt x="17239" y="8285"/>
                </a:cubicBezTo>
              </a:path>
              <a:path w="2928" h="1291">
                <a:moveTo>
                  <a:pt x="14883" y="8086"/>
                </a:moveTo>
                <a:cubicBezTo>
                  <a:pt x="14934" y="7984"/>
                  <a:pt x="15022" y="8029"/>
                  <a:pt x="15106" y="8062"/>
                </a:cubicBezTo>
                <a:cubicBezTo>
                  <a:pt x="15128" y="8294"/>
                  <a:pt x="15123" y="8438"/>
                  <a:pt x="14858" y="8508"/>
                </a:cubicBezTo>
                <a:cubicBezTo>
                  <a:pt x="14817" y="8508"/>
                  <a:pt x="14775" y="8508"/>
                  <a:pt x="14734" y="8508"/>
                </a:cubicBezTo>
                <a:cubicBezTo>
                  <a:pt x="14749" y="8308"/>
                  <a:pt x="14887" y="8278"/>
                  <a:pt x="15081" y="8359"/>
                </a:cubicBezTo>
                <a:cubicBezTo>
                  <a:pt x="15109" y="8387"/>
                  <a:pt x="15118" y="8401"/>
                  <a:pt x="15106" y="8434"/>
                </a:cubicBezTo>
              </a:path>
              <a:path w="2928" h="1291">
                <a:moveTo>
                  <a:pt x="15205" y="8037"/>
                </a:moveTo>
                <a:cubicBezTo>
                  <a:pt x="15205" y="8097"/>
                  <a:pt x="15183" y="8189"/>
                  <a:pt x="15230" y="8210"/>
                </a:cubicBezTo>
                <a:cubicBezTo>
                  <a:pt x="15369" y="8272"/>
                  <a:pt x="15381" y="8205"/>
                  <a:pt x="15453" y="8111"/>
                </a:cubicBezTo>
              </a:path>
              <a:path w="2928" h="1291">
                <a:moveTo>
                  <a:pt x="15404" y="7938"/>
                </a:moveTo>
                <a:cubicBezTo>
                  <a:pt x="15404" y="8117"/>
                  <a:pt x="15328" y="8393"/>
                  <a:pt x="15478" y="8359"/>
                </a:cubicBezTo>
              </a:path>
              <a:path w="2928" h="1291">
                <a:moveTo>
                  <a:pt x="15875" y="7863"/>
                </a:moveTo>
                <a:cubicBezTo>
                  <a:pt x="15757" y="7883"/>
                  <a:pt x="15701" y="7958"/>
                  <a:pt x="15726" y="8086"/>
                </a:cubicBezTo>
                <a:cubicBezTo>
                  <a:pt x="15746" y="8187"/>
                  <a:pt x="15828" y="8448"/>
                  <a:pt x="15776" y="8359"/>
                </a:cubicBezTo>
                <a:cubicBezTo>
                  <a:pt x="15768" y="8334"/>
                  <a:pt x="15759" y="8310"/>
                  <a:pt x="15751" y="8285"/>
                </a:cubicBezTo>
              </a:path>
              <a:path w="2928" h="1291">
                <a:moveTo>
                  <a:pt x="16049" y="7938"/>
                </a:moveTo>
                <a:cubicBezTo>
                  <a:pt x="16117" y="8059"/>
                  <a:pt x="16081" y="8173"/>
                  <a:pt x="16073" y="8310"/>
                </a:cubicBezTo>
                <a:cubicBezTo>
                  <a:pt x="16209" y="8310"/>
                  <a:pt x="16174" y="8304"/>
                  <a:pt x="16297" y="8235"/>
                </a:cubicBezTo>
              </a:path>
              <a:path w="2928" h="1291">
                <a:moveTo>
                  <a:pt x="15900" y="8186"/>
                </a:moveTo>
                <a:cubicBezTo>
                  <a:pt x="16022" y="8151"/>
                  <a:pt x="16149" y="8111"/>
                  <a:pt x="16272" y="8086"/>
                </a:cubicBezTo>
              </a:path>
              <a:path w="2928" h="1291">
                <a:moveTo>
                  <a:pt x="14436" y="7888"/>
                </a:moveTo>
                <a:cubicBezTo>
                  <a:pt x="14499" y="8155"/>
                  <a:pt x="14465" y="8408"/>
                  <a:pt x="14461" y="8682"/>
                </a:cubicBezTo>
                <a:cubicBezTo>
                  <a:pt x="14461" y="8731"/>
                  <a:pt x="14461" y="8781"/>
                  <a:pt x="14461" y="8830"/>
                </a:cubicBezTo>
                <a:cubicBezTo>
                  <a:pt x="14811" y="8918"/>
                  <a:pt x="15268" y="8785"/>
                  <a:pt x="15627" y="8731"/>
                </a:cubicBezTo>
                <a:cubicBezTo>
                  <a:pt x="16122" y="8656"/>
                  <a:pt x="16636" y="8553"/>
                  <a:pt x="17140" y="8582"/>
                </a:cubicBezTo>
                <a:cubicBezTo>
                  <a:pt x="17273" y="8590"/>
                  <a:pt x="17240" y="8617"/>
                  <a:pt x="17314" y="8632"/>
                </a:cubicBezTo>
                <a:cubicBezTo>
                  <a:pt x="17321" y="8440"/>
                  <a:pt x="17353" y="8253"/>
                  <a:pt x="17363" y="8062"/>
                </a:cubicBezTo>
                <a:cubicBezTo>
                  <a:pt x="17371" y="7906"/>
                  <a:pt x="17363" y="7747"/>
                  <a:pt x="17363" y="7590"/>
                </a:cubicBezTo>
                <a:cubicBezTo>
                  <a:pt x="17243" y="7616"/>
                  <a:pt x="17117" y="7613"/>
                  <a:pt x="16991" y="7640"/>
                </a:cubicBezTo>
                <a:cubicBezTo>
                  <a:pt x="16756" y="7690"/>
                  <a:pt x="16503" y="7728"/>
                  <a:pt x="16272" y="7789"/>
                </a:cubicBezTo>
                <a:cubicBezTo>
                  <a:pt x="16082" y="7839"/>
                  <a:pt x="15878" y="7872"/>
                  <a:pt x="15677" y="7888"/>
                </a:cubicBezTo>
                <a:cubicBezTo>
                  <a:pt x="15495" y="7902"/>
                  <a:pt x="15312" y="7889"/>
                  <a:pt x="15131" y="7913"/>
                </a:cubicBezTo>
                <a:cubicBezTo>
                  <a:pt x="14964" y="7935"/>
                  <a:pt x="14804" y="7938"/>
                  <a:pt x="14635" y="7938"/>
                </a:cubicBezTo>
                <a:cubicBezTo>
                  <a:pt x="14561" y="7938"/>
                  <a:pt x="14505" y="7950"/>
                  <a:pt x="14436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88120" y="2751120"/>
            <a:ext cx="1054080" cy="741240"/>
          </a:xfrm>
          <a:custGeom>
            <a:avLst/>
            <a:gdLst/>
            <a:ahLst/>
            <a:rect l="l" t="t" r="r" b="b"/>
            <a:pathLst>
              <a:path w="2928" h="2060">
                <a:moveTo>
                  <a:pt x="21158" y="8186"/>
                </a:moveTo>
                <a:cubicBezTo>
                  <a:pt x="21187" y="8169"/>
                  <a:pt x="21375" y="8075"/>
                  <a:pt x="21332" y="8186"/>
                </a:cubicBezTo>
                <a:cubicBezTo>
                  <a:pt x="21305" y="8256"/>
                  <a:pt x="21259" y="8269"/>
                  <a:pt x="21208" y="8310"/>
                </a:cubicBezTo>
                <a:cubicBezTo>
                  <a:pt x="21271" y="8278"/>
                  <a:pt x="21332" y="8343"/>
                  <a:pt x="21332" y="8434"/>
                </a:cubicBezTo>
                <a:cubicBezTo>
                  <a:pt x="21332" y="8574"/>
                  <a:pt x="21215" y="8552"/>
                  <a:pt x="21134" y="8533"/>
                </a:cubicBezTo>
                <a:cubicBezTo>
                  <a:pt x="21126" y="8533"/>
                  <a:pt x="21117" y="8533"/>
                  <a:pt x="21109" y="8533"/>
                </a:cubicBezTo>
              </a:path>
              <a:path w="2928" h="2060">
                <a:moveTo>
                  <a:pt x="21754" y="8136"/>
                </a:moveTo>
                <a:cubicBezTo>
                  <a:pt x="21909" y="8115"/>
                  <a:pt x="21999" y="8140"/>
                  <a:pt x="21977" y="8334"/>
                </a:cubicBezTo>
                <a:cubicBezTo>
                  <a:pt x="21966" y="8425"/>
                  <a:pt x="21904" y="8397"/>
                  <a:pt x="21853" y="8384"/>
                </a:cubicBezTo>
                <a:cubicBezTo>
                  <a:pt x="21781" y="8288"/>
                  <a:pt x="21927" y="8341"/>
                  <a:pt x="21977" y="8359"/>
                </a:cubicBezTo>
                <a:cubicBezTo>
                  <a:pt x="22017" y="8379"/>
                  <a:pt x="22024" y="8388"/>
                  <a:pt x="22051" y="8384"/>
                </a:cubicBezTo>
              </a:path>
              <a:path w="2928" h="2060">
                <a:moveTo>
                  <a:pt x="22175" y="8062"/>
                </a:moveTo>
                <a:cubicBezTo>
                  <a:pt x="22175" y="8159"/>
                  <a:pt x="22184" y="8241"/>
                  <a:pt x="22200" y="8334"/>
                </a:cubicBezTo>
                <a:cubicBezTo>
                  <a:pt x="22222" y="8465"/>
                  <a:pt x="22362" y="8325"/>
                  <a:pt x="22399" y="8285"/>
                </a:cubicBezTo>
                <a:cubicBezTo>
                  <a:pt x="22407" y="8277"/>
                  <a:pt x="22415" y="8268"/>
                  <a:pt x="22423" y="8260"/>
                </a:cubicBezTo>
                <a:cubicBezTo>
                  <a:pt x="22358" y="8277"/>
                  <a:pt x="22334" y="8319"/>
                  <a:pt x="22324" y="8384"/>
                </a:cubicBezTo>
                <a:cubicBezTo>
                  <a:pt x="22324" y="8392"/>
                  <a:pt x="22324" y="8401"/>
                  <a:pt x="22324" y="8409"/>
                </a:cubicBezTo>
              </a:path>
              <a:path w="2928" h="2060">
                <a:moveTo>
                  <a:pt x="22547" y="8086"/>
                </a:moveTo>
                <a:cubicBezTo>
                  <a:pt x="22580" y="8175"/>
                  <a:pt x="22598" y="8253"/>
                  <a:pt x="22721" y="8186"/>
                </a:cubicBezTo>
                <a:cubicBezTo>
                  <a:pt x="22738" y="8169"/>
                  <a:pt x="22754" y="8153"/>
                  <a:pt x="22771" y="8136"/>
                </a:cubicBezTo>
              </a:path>
              <a:path w="2928" h="2060">
                <a:moveTo>
                  <a:pt x="22771" y="7962"/>
                </a:moveTo>
                <a:cubicBezTo>
                  <a:pt x="22771" y="8074"/>
                  <a:pt x="22780" y="8177"/>
                  <a:pt x="22796" y="8285"/>
                </a:cubicBezTo>
                <a:cubicBezTo>
                  <a:pt x="22796" y="8293"/>
                  <a:pt x="22796" y="8302"/>
                  <a:pt x="22796" y="8310"/>
                </a:cubicBezTo>
              </a:path>
              <a:path w="2928" h="2060">
                <a:moveTo>
                  <a:pt x="20935" y="8607"/>
                </a:moveTo>
                <a:cubicBezTo>
                  <a:pt x="20935" y="8632"/>
                  <a:pt x="20935" y="8640"/>
                  <a:pt x="20935" y="8657"/>
                </a:cubicBezTo>
                <a:cubicBezTo>
                  <a:pt x="20956" y="8531"/>
                  <a:pt x="20964" y="8402"/>
                  <a:pt x="20935" y="8260"/>
                </a:cubicBezTo>
                <a:cubicBezTo>
                  <a:pt x="20925" y="8210"/>
                  <a:pt x="20870" y="8143"/>
                  <a:pt x="20910" y="8111"/>
                </a:cubicBezTo>
                <a:cubicBezTo>
                  <a:pt x="20995" y="8044"/>
                  <a:pt x="21252" y="8075"/>
                  <a:pt x="21357" y="8062"/>
                </a:cubicBezTo>
                <a:cubicBezTo>
                  <a:pt x="21582" y="8034"/>
                  <a:pt x="21803" y="8058"/>
                  <a:pt x="22027" y="8037"/>
                </a:cubicBezTo>
                <a:cubicBezTo>
                  <a:pt x="22186" y="8022"/>
                  <a:pt x="22337" y="8012"/>
                  <a:pt x="22498" y="8012"/>
                </a:cubicBezTo>
                <a:cubicBezTo>
                  <a:pt x="22613" y="8012"/>
                  <a:pt x="22711" y="7998"/>
                  <a:pt x="22820" y="7987"/>
                </a:cubicBezTo>
                <a:cubicBezTo>
                  <a:pt x="22853" y="7987"/>
                  <a:pt x="22870" y="7987"/>
                  <a:pt x="22895" y="7987"/>
                </a:cubicBezTo>
              </a:path>
              <a:path w="2928" h="2060">
                <a:moveTo>
                  <a:pt x="19968" y="8334"/>
                </a:moveTo>
                <a:cubicBezTo>
                  <a:pt x="19968" y="8268"/>
                  <a:pt x="19991" y="8514"/>
                  <a:pt x="19993" y="8533"/>
                </a:cubicBezTo>
                <a:cubicBezTo>
                  <a:pt x="19993" y="8549"/>
                  <a:pt x="19993" y="8566"/>
                  <a:pt x="19993" y="8582"/>
                </a:cubicBezTo>
              </a:path>
              <a:path w="2928" h="2060">
                <a:moveTo>
                  <a:pt x="20216" y="8235"/>
                </a:moveTo>
                <a:cubicBezTo>
                  <a:pt x="20261" y="8226"/>
                  <a:pt x="20297" y="8207"/>
                  <a:pt x="20340" y="8186"/>
                </a:cubicBezTo>
                <a:cubicBezTo>
                  <a:pt x="20340" y="8292"/>
                  <a:pt x="20313" y="8262"/>
                  <a:pt x="20265" y="8310"/>
                </a:cubicBezTo>
                <a:cubicBezTo>
                  <a:pt x="20273" y="8310"/>
                  <a:pt x="20282" y="8310"/>
                  <a:pt x="20290" y="8310"/>
                </a:cubicBezTo>
                <a:cubicBezTo>
                  <a:pt x="20370" y="8336"/>
                  <a:pt x="20454" y="8360"/>
                  <a:pt x="20439" y="8458"/>
                </a:cubicBezTo>
                <a:cubicBezTo>
                  <a:pt x="20430" y="8516"/>
                  <a:pt x="20312" y="8626"/>
                  <a:pt x="20290" y="8533"/>
                </a:cubicBezTo>
                <a:cubicBezTo>
                  <a:pt x="20290" y="8488"/>
                  <a:pt x="20287" y="8475"/>
                  <a:pt x="20315" y="8458"/>
                </a:cubicBezTo>
              </a:path>
              <a:path w="2928" h="2060">
                <a:moveTo>
                  <a:pt x="20563" y="8186"/>
                </a:moveTo>
                <a:cubicBezTo>
                  <a:pt x="20587" y="8258"/>
                  <a:pt x="20579" y="8375"/>
                  <a:pt x="20638" y="8434"/>
                </a:cubicBezTo>
                <a:cubicBezTo>
                  <a:pt x="20698" y="8494"/>
                  <a:pt x="20800" y="8445"/>
                  <a:pt x="20836" y="8384"/>
                </a:cubicBezTo>
                <a:cubicBezTo>
                  <a:pt x="20855" y="8327"/>
                  <a:pt x="20881" y="8302"/>
                  <a:pt x="20836" y="8310"/>
                </a:cubicBezTo>
                <a:cubicBezTo>
                  <a:pt x="20774" y="8383"/>
                  <a:pt x="20762" y="8416"/>
                  <a:pt x="20762" y="8508"/>
                </a:cubicBezTo>
              </a:path>
              <a:path w="2928" h="2060">
                <a:moveTo>
                  <a:pt x="21208" y="7764"/>
                </a:moveTo>
                <a:cubicBezTo>
                  <a:pt x="21186" y="7822"/>
                  <a:pt x="21142" y="7916"/>
                  <a:pt x="21233" y="7938"/>
                </a:cubicBezTo>
                <a:cubicBezTo>
                  <a:pt x="21323" y="7960"/>
                  <a:pt x="21379" y="7886"/>
                  <a:pt x="21332" y="7813"/>
                </a:cubicBezTo>
                <a:cubicBezTo>
                  <a:pt x="21307" y="7775"/>
                  <a:pt x="21271" y="7789"/>
                  <a:pt x="21233" y="7789"/>
                </a:cubicBezTo>
              </a:path>
              <a:path w="2928" h="2060">
                <a:moveTo>
                  <a:pt x="21654" y="7764"/>
                </a:moveTo>
                <a:cubicBezTo>
                  <a:pt x="21654" y="7822"/>
                  <a:pt x="21654" y="7880"/>
                  <a:pt x="21654" y="7938"/>
                </a:cubicBezTo>
                <a:cubicBezTo>
                  <a:pt x="21765" y="7950"/>
                  <a:pt x="21796" y="7986"/>
                  <a:pt x="21853" y="7863"/>
                </a:cubicBezTo>
                <a:cubicBezTo>
                  <a:pt x="21869" y="7828"/>
                  <a:pt x="21779" y="7818"/>
                  <a:pt x="21754" y="7813"/>
                </a:cubicBezTo>
              </a:path>
              <a:path w="2928" h="2060">
                <a:moveTo>
                  <a:pt x="22175" y="7665"/>
                </a:moveTo>
                <a:cubicBezTo>
                  <a:pt x="22134" y="7665"/>
                  <a:pt x="22138" y="7655"/>
                  <a:pt x="22126" y="7689"/>
                </a:cubicBezTo>
                <a:cubicBezTo>
                  <a:pt x="22133" y="7684"/>
                  <a:pt x="22222" y="7626"/>
                  <a:pt x="22225" y="7640"/>
                </a:cubicBezTo>
                <a:cubicBezTo>
                  <a:pt x="22251" y="7760"/>
                  <a:pt x="22146" y="7839"/>
                  <a:pt x="22101" y="7938"/>
                </a:cubicBezTo>
                <a:cubicBezTo>
                  <a:pt x="22181" y="7938"/>
                  <a:pt x="22250" y="7915"/>
                  <a:pt x="22324" y="7888"/>
                </a:cubicBezTo>
              </a:path>
              <a:path w="2928" h="2060">
                <a:moveTo>
                  <a:pt x="22275" y="8632"/>
                </a:moveTo>
                <a:cubicBezTo>
                  <a:pt x="22324" y="8615"/>
                  <a:pt x="22285" y="8622"/>
                  <a:pt x="22374" y="8582"/>
                </a:cubicBezTo>
                <a:cubicBezTo>
                  <a:pt x="22381" y="8602"/>
                  <a:pt x="22439" y="8689"/>
                  <a:pt x="22399" y="8731"/>
                </a:cubicBezTo>
                <a:cubicBezTo>
                  <a:pt x="22339" y="8794"/>
                  <a:pt x="22319" y="8765"/>
                  <a:pt x="22275" y="8855"/>
                </a:cubicBezTo>
                <a:cubicBezTo>
                  <a:pt x="22360" y="8855"/>
                  <a:pt x="22438" y="8835"/>
                  <a:pt x="22523" y="8830"/>
                </a:cubicBezTo>
                <a:cubicBezTo>
                  <a:pt x="22531" y="8830"/>
                  <a:pt x="22539" y="8830"/>
                  <a:pt x="22547" y="8830"/>
                </a:cubicBezTo>
              </a:path>
              <a:path w="2928" h="2060">
                <a:moveTo>
                  <a:pt x="21828" y="8706"/>
                </a:moveTo>
                <a:cubicBezTo>
                  <a:pt x="21859" y="8677"/>
                  <a:pt x="21915" y="8682"/>
                  <a:pt x="21977" y="8682"/>
                </a:cubicBezTo>
                <a:cubicBezTo>
                  <a:pt x="22005" y="8682"/>
                  <a:pt x="22016" y="8680"/>
                  <a:pt x="22027" y="8657"/>
                </a:cubicBezTo>
                <a:cubicBezTo>
                  <a:pt x="22052" y="8721"/>
                  <a:pt x="22006" y="8843"/>
                  <a:pt x="22002" y="8930"/>
                </a:cubicBezTo>
                <a:cubicBezTo>
                  <a:pt x="22002" y="8938"/>
                  <a:pt x="22002" y="8946"/>
                  <a:pt x="22002" y="8954"/>
                </a:cubicBezTo>
              </a:path>
              <a:path w="2928" h="2060">
                <a:moveTo>
                  <a:pt x="21282" y="8806"/>
                </a:moveTo>
                <a:cubicBezTo>
                  <a:pt x="21318" y="8792"/>
                  <a:pt x="21450" y="8683"/>
                  <a:pt x="21456" y="8806"/>
                </a:cubicBezTo>
                <a:cubicBezTo>
                  <a:pt x="21460" y="8883"/>
                  <a:pt x="21370" y="8946"/>
                  <a:pt x="21332" y="9004"/>
                </a:cubicBezTo>
                <a:cubicBezTo>
                  <a:pt x="21445" y="9004"/>
                  <a:pt x="21548" y="9000"/>
                  <a:pt x="21654" y="8979"/>
                </a:cubicBezTo>
                <a:cubicBezTo>
                  <a:pt x="21662" y="8979"/>
                  <a:pt x="21671" y="8979"/>
                  <a:pt x="21679" y="8979"/>
                </a:cubicBezTo>
              </a:path>
              <a:path w="2928" h="2060">
                <a:moveTo>
                  <a:pt x="21134" y="9227"/>
                </a:moveTo>
                <a:cubicBezTo>
                  <a:pt x="21373" y="9213"/>
                  <a:pt x="21613" y="9192"/>
                  <a:pt x="21853" y="9178"/>
                </a:cubicBezTo>
                <a:cubicBezTo>
                  <a:pt x="22175" y="9159"/>
                  <a:pt x="22501" y="9136"/>
                  <a:pt x="22820" y="9103"/>
                </a:cubicBezTo>
                <a:cubicBezTo>
                  <a:pt x="22828" y="9103"/>
                  <a:pt x="22837" y="9103"/>
                  <a:pt x="22845" y="9103"/>
                </a:cubicBezTo>
              </a:path>
              <a:path w="2928" h="2060">
                <a:moveTo>
                  <a:pt x="22423" y="9277"/>
                </a:moveTo>
                <a:cubicBezTo>
                  <a:pt x="22423" y="9337"/>
                  <a:pt x="22415" y="9365"/>
                  <a:pt x="22399" y="9426"/>
                </a:cubicBezTo>
                <a:cubicBezTo>
                  <a:pt x="22486" y="9464"/>
                  <a:pt x="22550" y="9440"/>
                  <a:pt x="22647" y="9426"/>
                </a:cubicBezTo>
              </a:path>
              <a:path w="2928" h="2060">
                <a:moveTo>
                  <a:pt x="22572" y="9277"/>
                </a:moveTo>
                <a:cubicBezTo>
                  <a:pt x="22563" y="9378"/>
                  <a:pt x="22547" y="9473"/>
                  <a:pt x="22547" y="9575"/>
                </a:cubicBezTo>
                <a:cubicBezTo>
                  <a:pt x="22547" y="9567"/>
                  <a:pt x="22547" y="9558"/>
                  <a:pt x="22547" y="9550"/>
                </a:cubicBezTo>
              </a:path>
              <a:path w="2928" h="2060">
                <a:moveTo>
                  <a:pt x="21109" y="8285"/>
                </a:moveTo>
                <a:cubicBezTo>
                  <a:pt x="21200" y="8285"/>
                  <a:pt x="21222" y="8354"/>
                  <a:pt x="21258" y="8434"/>
                </a:cubicBezTo>
                <a:cubicBezTo>
                  <a:pt x="21266" y="8459"/>
                  <a:pt x="21274" y="8483"/>
                  <a:pt x="21282" y="8508"/>
                </a:cubicBezTo>
              </a:path>
              <a:path w="2928" h="2060">
                <a:moveTo>
                  <a:pt x="20985" y="8682"/>
                </a:moveTo>
                <a:cubicBezTo>
                  <a:pt x="21018" y="8682"/>
                  <a:pt x="21051" y="8682"/>
                  <a:pt x="21084" y="8682"/>
                </a:cubicBezTo>
                <a:cubicBezTo>
                  <a:pt x="21076" y="8740"/>
                  <a:pt x="21046" y="8771"/>
                  <a:pt x="21034" y="8830"/>
                </a:cubicBezTo>
                <a:cubicBezTo>
                  <a:pt x="21065" y="8830"/>
                  <a:pt x="21142" y="8826"/>
                  <a:pt x="21158" y="8806"/>
                </a:cubicBezTo>
                <a:cubicBezTo>
                  <a:pt x="21158" y="8781"/>
                  <a:pt x="21158" y="8773"/>
                  <a:pt x="21183" y="8781"/>
                </a:cubicBezTo>
              </a:path>
              <a:path w="2928" h="2060">
                <a:moveTo>
                  <a:pt x="21630" y="8186"/>
                </a:moveTo>
                <a:cubicBezTo>
                  <a:pt x="21661" y="8239"/>
                  <a:pt x="21674" y="8285"/>
                  <a:pt x="21654" y="8334"/>
                </a:cubicBezTo>
              </a:path>
              <a:path w="2928" h="2060">
                <a:moveTo>
                  <a:pt x="22027" y="9302"/>
                </a:moveTo>
                <a:cubicBezTo>
                  <a:pt x="21980" y="9306"/>
                  <a:pt x="21885" y="9299"/>
                  <a:pt x="21878" y="9351"/>
                </a:cubicBezTo>
                <a:cubicBezTo>
                  <a:pt x="21872" y="9395"/>
                  <a:pt x="21859" y="9430"/>
                  <a:pt x="21853" y="9475"/>
                </a:cubicBezTo>
                <a:cubicBezTo>
                  <a:pt x="21910" y="9464"/>
                  <a:pt x="21965" y="9412"/>
                  <a:pt x="22027" y="9426"/>
                </a:cubicBezTo>
                <a:cubicBezTo>
                  <a:pt x="22139" y="9451"/>
                  <a:pt x="22109" y="9591"/>
                  <a:pt x="22051" y="9649"/>
                </a:cubicBezTo>
                <a:cubicBezTo>
                  <a:pt x="21965" y="9736"/>
                  <a:pt x="21930" y="9701"/>
                  <a:pt x="21853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60680" y="2884320"/>
            <a:ext cx="1635120" cy="2928960"/>
          </a:xfrm>
          <a:custGeom>
            <a:avLst/>
            <a:gdLst/>
            <a:ahLst/>
            <a:rect l="l" t="t" r="r" b="b"/>
            <a:pathLst>
              <a:path w="4540" h="8137">
                <a:moveTo>
                  <a:pt x="8830" y="15900"/>
                </a:moveTo>
                <a:cubicBezTo>
                  <a:pt x="8939" y="15931"/>
                  <a:pt x="9040" y="15950"/>
                  <a:pt x="9153" y="15974"/>
                </a:cubicBezTo>
              </a:path>
              <a:path w="4540" h="8137">
                <a:moveTo>
                  <a:pt x="8930" y="16148"/>
                </a:moveTo>
                <a:cubicBezTo>
                  <a:pt x="9055" y="16127"/>
                  <a:pt x="9082" y="16111"/>
                  <a:pt x="9153" y="16148"/>
                </a:cubicBezTo>
              </a:path>
              <a:path w="4540" h="8137">
                <a:moveTo>
                  <a:pt x="4614" y="8037"/>
                </a:moveTo>
                <a:cubicBezTo>
                  <a:pt x="4692" y="8026"/>
                  <a:pt x="4758" y="8017"/>
                  <a:pt x="4837" y="8012"/>
                </a:cubicBezTo>
              </a:path>
              <a:path w="4540" h="8137">
                <a:moveTo>
                  <a:pt x="4688" y="8161"/>
                </a:moveTo>
                <a:cubicBezTo>
                  <a:pt x="4775" y="8161"/>
                  <a:pt x="4811" y="8155"/>
                  <a:pt x="4862" y="8111"/>
                </a:cubicBezTo>
              </a:path>
              <a:path w="4540" h="8137">
                <a:moveTo>
                  <a:pt x="4862" y="8111"/>
                </a:moveTo>
                <a:lnTo>
                  <a:pt x="4862" y="811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4125960"/>
            <a:ext cx="196920" cy="9828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7962" y="11534"/>
                </a:moveTo>
                <a:cubicBezTo>
                  <a:pt x="8093" y="11504"/>
                  <a:pt x="8202" y="11475"/>
                  <a:pt x="8334" y="11460"/>
                </a:cubicBezTo>
              </a:path>
              <a:path w="547" h="274">
                <a:moveTo>
                  <a:pt x="7888" y="11733"/>
                </a:moveTo>
                <a:cubicBezTo>
                  <a:pt x="8079" y="11725"/>
                  <a:pt x="8246" y="11696"/>
                  <a:pt x="8434" y="11658"/>
                </a:cubicBezTo>
              </a:path>
              <a:path w="547" h="274">
                <a:moveTo>
                  <a:pt x="8434" y="11658"/>
                </a:moveTo>
                <a:lnTo>
                  <a:pt x="8434" y="1165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4200" y="3973680"/>
            <a:ext cx="160560" cy="312480"/>
          </a:xfrm>
          <a:custGeom>
            <a:avLst/>
            <a:gdLst/>
            <a:ahLst/>
            <a:rect l="l" t="t" r="r" b="b"/>
            <a:pathLst>
              <a:path w="448" h="869">
                <a:moveTo>
                  <a:pt x="7094" y="11038"/>
                </a:moveTo>
                <a:cubicBezTo>
                  <a:pt x="7278" y="11222"/>
                  <a:pt x="7294" y="11519"/>
                  <a:pt x="7317" y="11782"/>
                </a:cubicBezTo>
                <a:cubicBezTo>
                  <a:pt x="7317" y="11823"/>
                  <a:pt x="7317" y="11865"/>
                  <a:pt x="7317" y="11906"/>
                </a:cubicBezTo>
                <a:cubicBezTo>
                  <a:pt x="7396" y="11687"/>
                  <a:pt x="7417" y="11417"/>
                  <a:pt x="7516" y="11212"/>
                </a:cubicBezTo>
                <a:cubicBezTo>
                  <a:pt x="7524" y="11212"/>
                  <a:pt x="7533" y="11212"/>
                  <a:pt x="7541" y="112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97160" y="3973680"/>
            <a:ext cx="758880" cy="339480"/>
          </a:xfrm>
          <a:custGeom>
            <a:avLst/>
            <a:gdLst/>
            <a:ahLst/>
            <a:rect l="l" t="t" r="r" b="b"/>
            <a:pathLst>
              <a:path w="2109" h="944">
                <a:moveTo>
                  <a:pt x="8880" y="11038"/>
                </a:moveTo>
                <a:cubicBezTo>
                  <a:pt x="8880" y="11205"/>
                  <a:pt x="8867" y="11957"/>
                  <a:pt x="8905" y="11931"/>
                </a:cubicBezTo>
              </a:path>
              <a:path w="2109" h="944">
                <a:moveTo>
                  <a:pt x="9203" y="11410"/>
                </a:moveTo>
                <a:cubicBezTo>
                  <a:pt x="9211" y="11469"/>
                  <a:pt x="9201" y="11891"/>
                  <a:pt x="9227" y="11906"/>
                </a:cubicBezTo>
                <a:cubicBezTo>
                  <a:pt x="9361" y="11986"/>
                  <a:pt x="9478" y="11701"/>
                  <a:pt x="9525" y="11633"/>
                </a:cubicBezTo>
                <a:cubicBezTo>
                  <a:pt x="9533" y="11625"/>
                  <a:pt x="9542" y="11617"/>
                  <a:pt x="9550" y="11609"/>
                </a:cubicBezTo>
                <a:cubicBezTo>
                  <a:pt x="9507" y="11779"/>
                  <a:pt x="9511" y="12018"/>
                  <a:pt x="9773" y="11906"/>
                </a:cubicBezTo>
                <a:cubicBezTo>
                  <a:pt x="10123" y="11757"/>
                  <a:pt x="9950" y="11450"/>
                  <a:pt x="9748" y="11311"/>
                </a:cubicBezTo>
              </a:path>
              <a:path w="2109" h="944">
                <a:moveTo>
                  <a:pt x="10120" y="11088"/>
                </a:moveTo>
                <a:cubicBezTo>
                  <a:pt x="10133" y="11322"/>
                  <a:pt x="10203" y="11663"/>
                  <a:pt x="10120" y="11881"/>
                </a:cubicBezTo>
                <a:cubicBezTo>
                  <a:pt x="10133" y="11826"/>
                  <a:pt x="10277" y="11203"/>
                  <a:pt x="10418" y="11410"/>
                </a:cubicBezTo>
                <a:cubicBezTo>
                  <a:pt x="10587" y="11657"/>
                  <a:pt x="10492" y="11836"/>
                  <a:pt x="10864" y="11881"/>
                </a:cubicBezTo>
                <a:cubicBezTo>
                  <a:pt x="10905" y="11881"/>
                  <a:pt x="10947" y="11881"/>
                  <a:pt x="10988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01960" y="4554360"/>
            <a:ext cx="98280" cy="9720"/>
          </a:xfrm>
          <a:custGeom>
            <a:avLst/>
            <a:gdLst/>
            <a:ahLst/>
            <a:rect l="l" t="t" r="r" b="b"/>
            <a:pathLst>
              <a:path w="273" h="26">
                <a:moveTo>
                  <a:pt x="8062" y="12675"/>
                </a:moveTo>
                <a:cubicBezTo>
                  <a:pt x="8211" y="12675"/>
                  <a:pt x="8246" y="12681"/>
                  <a:pt x="8334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95360" y="4411800"/>
            <a:ext cx="677880" cy="231480"/>
          </a:xfrm>
          <a:custGeom>
            <a:avLst/>
            <a:gdLst/>
            <a:ahLst/>
            <a:rect l="l" t="t" r="r" b="b"/>
            <a:pathLst>
              <a:path w="1886" h="645">
                <a:moveTo>
                  <a:pt x="6375" y="12353"/>
                </a:moveTo>
                <a:cubicBezTo>
                  <a:pt x="6375" y="12237"/>
                  <a:pt x="6375" y="12534"/>
                  <a:pt x="6375" y="12650"/>
                </a:cubicBezTo>
                <a:cubicBezTo>
                  <a:pt x="6375" y="12733"/>
                  <a:pt x="6375" y="12815"/>
                  <a:pt x="6375" y="12898"/>
                </a:cubicBezTo>
              </a:path>
              <a:path w="1886" h="645">
                <a:moveTo>
                  <a:pt x="6995" y="12254"/>
                </a:moveTo>
                <a:cubicBezTo>
                  <a:pt x="6907" y="12321"/>
                  <a:pt x="6785" y="12321"/>
                  <a:pt x="6747" y="12378"/>
                </a:cubicBezTo>
                <a:cubicBezTo>
                  <a:pt x="6710" y="12433"/>
                  <a:pt x="6704" y="12489"/>
                  <a:pt x="6697" y="12551"/>
                </a:cubicBezTo>
                <a:cubicBezTo>
                  <a:pt x="6779" y="12539"/>
                  <a:pt x="6936" y="12474"/>
                  <a:pt x="6995" y="12576"/>
                </a:cubicBezTo>
                <a:cubicBezTo>
                  <a:pt x="7111" y="12777"/>
                  <a:pt x="6862" y="12835"/>
                  <a:pt x="6722" y="12824"/>
                </a:cubicBezTo>
                <a:cubicBezTo>
                  <a:pt x="6645" y="12804"/>
                  <a:pt x="6596" y="12812"/>
                  <a:pt x="6648" y="12774"/>
                </a:cubicBezTo>
              </a:path>
              <a:path w="1886" h="645">
                <a:moveTo>
                  <a:pt x="7317" y="12353"/>
                </a:moveTo>
                <a:cubicBezTo>
                  <a:pt x="7317" y="12475"/>
                  <a:pt x="7205" y="12556"/>
                  <a:pt x="7193" y="12675"/>
                </a:cubicBezTo>
                <a:cubicBezTo>
                  <a:pt x="7218" y="12775"/>
                  <a:pt x="7228" y="12809"/>
                  <a:pt x="7293" y="12849"/>
                </a:cubicBezTo>
                <a:cubicBezTo>
                  <a:pt x="7463" y="12789"/>
                  <a:pt x="7714" y="12669"/>
                  <a:pt x="7590" y="12427"/>
                </a:cubicBezTo>
                <a:cubicBezTo>
                  <a:pt x="7513" y="12277"/>
                  <a:pt x="7349" y="12351"/>
                  <a:pt x="7243" y="12378"/>
                </a:cubicBezTo>
              </a:path>
              <a:path w="1886" h="645">
                <a:moveTo>
                  <a:pt x="7888" y="12551"/>
                </a:moveTo>
                <a:cubicBezTo>
                  <a:pt x="7973" y="12551"/>
                  <a:pt x="8198" y="12490"/>
                  <a:pt x="8260" y="12526"/>
                </a:cubicBezTo>
                <a:cubicBezTo>
                  <a:pt x="8252" y="12534"/>
                  <a:pt x="8243" y="12543"/>
                  <a:pt x="8235" y="125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06800" y="4438800"/>
            <a:ext cx="438120" cy="231480"/>
          </a:xfrm>
          <a:custGeom>
            <a:avLst/>
            <a:gdLst/>
            <a:ahLst/>
            <a:rect l="l" t="t" r="r" b="b"/>
            <a:pathLst>
              <a:path w="1216" h="646">
                <a:moveTo>
                  <a:pt x="9029" y="12328"/>
                </a:moveTo>
                <a:cubicBezTo>
                  <a:pt x="8912" y="12340"/>
                  <a:pt x="8802" y="12353"/>
                  <a:pt x="8682" y="12353"/>
                </a:cubicBezTo>
                <a:cubicBezTo>
                  <a:pt x="8682" y="12410"/>
                  <a:pt x="8652" y="12598"/>
                  <a:pt x="8706" y="12601"/>
                </a:cubicBezTo>
                <a:cubicBezTo>
                  <a:pt x="8879" y="12611"/>
                  <a:pt x="8953" y="12585"/>
                  <a:pt x="9054" y="12725"/>
                </a:cubicBezTo>
                <a:cubicBezTo>
                  <a:pt x="8914" y="12864"/>
                  <a:pt x="8853" y="12874"/>
                  <a:pt x="8657" y="12874"/>
                </a:cubicBezTo>
                <a:cubicBezTo>
                  <a:pt x="8649" y="12874"/>
                  <a:pt x="8640" y="12874"/>
                  <a:pt x="8632" y="12874"/>
                </a:cubicBezTo>
              </a:path>
              <a:path w="1216" h="646">
                <a:moveTo>
                  <a:pt x="9302" y="12601"/>
                </a:moveTo>
                <a:cubicBezTo>
                  <a:pt x="9302" y="12709"/>
                  <a:pt x="9281" y="12815"/>
                  <a:pt x="9277" y="12923"/>
                </a:cubicBezTo>
                <a:cubicBezTo>
                  <a:pt x="9277" y="12951"/>
                  <a:pt x="9279" y="12962"/>
                  <a:pt x="9302" y="12973"/>
                </a:cubicBezTo>
                <a:cubicBezTo>
                  <a:pt x="9404" y="12879"/>
                  <a:pt x="9477" y="12772"/>
                  <a:pt x="9550" y="12650"/>
                </a:cubicBezTo>
                <a:cubicBezTo>
                  <a:pt x="9533" y="12765"/>
                  <a:pt x="9474" y="12870"/>
                  <a:pt x="9599" y="12948"/>
                </a:cubicBezTo>
                <a:cubicBezTo>
                  <a:pt x="9794" y="13069"/>
                  <a:pt x="9859" y="12847"/>
                  <a:pt x="9847" y="12700"/>
                </a:cubicBezTo>
                <a:cubicBezTo>
                  <a:pt x="9828" y="12643"/>
                  <a:pt x="9820" y="12636"/>
                  <a:pt x="9823" y="126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79920" y="4438800"/>
            <a:ext cx="222120" cy="214200"/>
          </a:xfrm>
          <a:custGeom>
            <a:avLst/>
            <a:gdLst/>
            <a:ahLst/>
            <a:rect l="l" t="t" r="r" b="b"/>
            <a:pathLst>
              <a:path w="621" h="596">
                <a:moveTo>
                  <a:pt x="10220" y="12378"/>
                </a:moveTo>
                <a:cubicBezTo>
                  <a:pt x="10275" y="12528"/>
                  <a:pt x="10233" y="12710"/>
                  <a:pt x="10220" y="12874"/>
                </a:cubicBezTo>
                <a:cubicBezTo>
                  <a:pt x="10220" y="12923"/>
                  <a:pt x="10220" y="12939"/>
                  <a:pt x="10220" y="12874"/>
                </a:cubicBezTo>
              </a:path>
              <a:path w="621" h="596">
                <a:moveTo>
                  <a:pt x="10666" y="12328"/>
                </a:moveTo>
                <a:cubicBezTo>
                  <a:pt x="10578" y="12515"/>
                  <a:pt x="10532" y="12673"/>
                  <a:pt x="10542" y="12874"/>
                </a:cubicBezTo>
                <a:cubicBezTo>
                  <a:pt x="10724" y="12852"/>
                  <a:pt x="10941" y="12750"/>
                  <a:pt x="10840" y="12502"/>
                </a:cubicBezTo>
                <a:cubicBezTo>
                  <a:pt x="10746" y="12432"/>
                  <a:pt x="10720" y="12408"/>
                  <a:pt x="10641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4670280"/>
            <a:ext cx="1589400" cy="1285920"/>
          </a:xfrm>
          <a:custGeom>
            <a:avLst/>
            <a:gdLst/>
            <a:ahLst/>
            <a:rect l="l" t="t" r="r" b="b"/>
            <a:pathLst>
              <a:path w="4416" h="3573">
                <a:moveTo>
                  <a:pt x="8830" y="13097"/>
                </a:moveTo>
                <a:cubicBezTo>
                  <a:pt x="8853" y="13173"/>
                  <a:pt x="8855" y="13239"/>
                  <a:pt x="8855" y="13320"/>
                </a:cubicBezTo>
                <a:cubicBezTo>
                  <a:pt x="9154" y="13320"/>
                  <a:pt x="9450" y="13347"/>
                  <a:pt x="9748" y="13370"/>
                </a:cubicBezTo>
                <a:cubicBezTo>
                  <a:pt x="10011" y="13391"/>
                  <a:pt x="10260" y="13436"/>
                  <a:pt x="10517" y="13494"/>
                </a:cubicBezTo>
                <a:cubicBezTo>
                  <a:pt x="10517" y="13336"/>
                  <a:pt x="10546" y="13204"/>
                  <a:pt x="10567" y="13047"/>
                </a:cubicBezTo>
                <a:cubicBezTo>
                  <a:pt x="10567" y="12989"/>
                  <a:pt x="10551" y="12965"/>
                  <a:pt x="10592" y="12973"/>
                </a:cubicBezTo>
              </a:path>
              <a:path w="4416" h="3573">
                <a:moveTo>
                  <a:pt x="9599" y="13593"/>
                </a:moveTo>
                <a:cubicBezTo>
                  <a:pt x="9367" y="13593"/>
                  <a:pt x="9346" y="13531"/>
                  <a:pt x="9277" y="13742"/>
                </a:cubicBezTo>
                <a:cubicBezTo>
                  <a:pt x="9260" y="13783"/>
                  <a:pt x="9244" y="13825"/>
                  <a:pt x="9227" y="13866"/>
                </a:cubicBezTo>
                <a:cubicBezTo>
                  <a:pt x="9227" y="13874"/>
                  <a:pt x="9227" y="13883"/>
                  <a:pt x="9227" y="13891"/>
                </a:cubicBezTo>
                <a:cubicBezTo>
                  <a:pt x="9345" y="13891"/>
                  <a:pt x="9399" y="13807"/>
                  <a:pt x="9525" y="13866"/>
                </a:cubicBezTo>
                <a:cubicBezTo>
                  <a:pt x="9593" y="13934"/>
                  <a:pt x="9620" y="13950"/>
                  <a:pt x="9575" y="14015"/>
                </a:cubicBezTo>
                <a:cubicBezTo>
                  <a:pt x="9455" y="14123"/>
                  <a:pt x="9371" y="14114"/>
                  <a:pt x="9203" y="14114"/>
                </a:cubicBezTo>
              </a:path>
              <a:path w="4416" h="3573">
                <a:moveTo>
                  <a:pt x="9996" y="13643"/>
                </a:moveTo>
                <a:cubicBezTo>
                  <a:pt x="9857" y="13724"/>
                  <a:pt x="9764" y="13837"/>
                  <a:pt x="9823" y="14015"/>
                </a:cubicBezTo>
                <a:cubicBezTo>
                  <a:pt x="9839" y="14040"/>
                  <a:pt x="9856" y="14064"/>
                  <a:pt x="9872" y="14089"/>
                </a:cubicBezTo>
                <a:cubicBezTo>
                  <a:pt x="10003" y="14058"/>
                  <a:pt x="10307" y="13922"/>
                  <a:pt x="10170" y="13717"/>
                </a:cubicBezTo>
                <a:cubicBezTo>
                  <a:pt x="10126" y="13651"/>
                  <a:pt x="9962" y="13609"/>
                  <a:pt x="9897" y="13568"/>
                </a:cubicBezTo>
              </a:path>
              <a:path w="4416" h="3573">
                <a:moveTo>
                  <a:pt x="10393" y="13816"/>
                </a:moveTo>
                <a:cubicBezTo>
                  <a:pt x="10448" y="13834"/>
                  <a:pt x="10383" y="13964"/>
                  <a:pt x="10418" y="14039"/>
                </a:cubicBezTo>
                <a:cubicBezTo>
                  <a:pt x="10506" y="14228"/>
                  <a:pt x="10707" y="13902"/>
                  <a:pt x="10740" y="13841"/>
                </a:cubicBezTo>
                <a:cubicBezTo>
                  <a:pt x="10751" y="13820"/>
                  <a:pt x="10737" y="13773"/>
                  <a:pt x="10716" y="13816"/>
                </a:cubicBezTo>
                <a:cubicBezTo>
                  <a:pt x="10783" y="13980"/>
                  <a:pt x="10869" y="14050"/>
                  <a:pt x="11038" y="13915"/>
                </a:cubicBezTo>
                <a:cubicBezTo>
                  <a:pt x="11127" y="13844"/>
                  <a:pt x="11140" y="13659"/>
                  <a:pt x="10988" y="13667"/>
                </a:cubicBezTo>
                <a:cubicBezTo>
                  <a:pt x="10972" y="13675"/>
                  <a:pt x="10955" y="13684"/>
                  <a:pt x="10939" y="13692"/>
                </a:cubicBezTo>
              </a:path>
              <a:path w="4416" h="3573">
                <a:moveTo>
                  <a:pt x="8111" y="13791"/>
                </a:moveTo>
                <a:cubicBezTo>
                  <a:pt x="8217" y="13791"/>
                  <a:pt x="8307" y="13783"/>
                  <a:pt x="8409" y="13767"/>
                </a:cubicBezTo>
                <a:cubicBezTo>
                  <a:pt x="8442" y="13767"/>
                  <a:pt x="8450" y="13775"/>
                  <a:pt x="8434" y="13816"/>
                </a:cubicBezTo>
              </a:path>
              <a:path w="4416" h="3573">
                <a:moveTo>
                  <a:pt x="8086" y="14064"/>
                </a:moveTo>
                <a:cubicBezTo>
                  <a:pt x="8209" y="14021"/>
                  <a:pt x="8304" y="13990"/>
                  <a:pt x="8434" y="13990"/>
                </a:cubicBezTo>
              </a:path>
              <a:path w="4416" h="3573">
                <a:moveTo>
                  <a:pt x="6772" y="13593"/>
                </a:moveTo>
                <a:cubicBezTo>
                  <a:pt x="6742" y="13801"/>
                  <a:pt x="6638" y="14414"/>
                  <a:pt x="6697" y="14213"/>
                </a:cubicBezTo>
                <a:cubicBezTo>
                  <a:pt x="6705" y="14180"/>
                  <a:pt x="6714" y="14147"/>
                  <a:pt x="6722" y="14114"/>
                </a:cubicBezTo>
              </a:path>
              <a:path w="4416" h="3573">
                <a:moveTo>
                  <a:pt x="7293" y="13469"/>
                </a:moveTo>
                <a:cubicBezTo>
                  <a:pt x="7244" y="13488"/>
                  <a:pt x="7070" y="13517"/>
                  <a:pt x="7045" y="13543"/>
                </a:cubicBezTo>
                <a:cubicBezTo>
                  <a:pt x="7008" y="13581"/>
                  <a:pt x="6993" y="13734"/>
                  <a:pt x="6970" y="13791"/>
                </a:cubicBezTo>
                <a:cubicBezTo>
                  <a:pt x="7072" y="13771"/>
                  <a:pt x="7135" y="13695"/>
                  <a:pt x="7243" y="13791"/>
                </a:cubicBezTo>
                <a:cubicBezTo>
                  <a:pt x="7386" y="13918"/>
                  <a:pt x="7230" y="14131"/>
                  <a:pt x="7069" y="14114"/>
                </a:cubicBezTo>
                <a:cubicBezTo>
                  <a:pt x="6973" y="14065"/>
                  <a:pt x="6939" y="14052"/>
                  <a:pt x="6995" y="13965"/>
                </a:cubicBezTo>
              </a:path>
              <a:path w="4416" h="3573">
                <a:moveTo>
                  <a:pt x="7590" y="13593"/>
                </a:moveTo>
                <a:cubicBezTo>
                  <a:pt x="7534" y="13748"/>
                  <a:pt x="7506" y="13901"/>
                  <a:pt x="7491" y="14064"/>
                </a:cubicBezTo>
                <a:cubicBezTo>
                  <a:pt x="7659" y="14065"/>
                  <a:pt x="7860" y="13912"/>
                  <a:pt x="7789" y="13692"/>
                </a:cubicBezTo>
                <a:cubicBezTo>
                  <a:pt x="7687" y="13591"/>
                  <a:pt x="7650" y="13557"/>
                  <a:pt x="7541" y="13568"/>
                </a:cubicBezTo>
              </a:path>
              <a:path w="4416" h="3573">
                <a:moveTo>
                  <a:pt x="9079" y="14412"/>
                </a:moveTo>
                <a:cubicBezTo>
                  <a:pt x="9299" y="14378"/>
                  <a:pt x="9498" y="14364"/>
                  <a:pt x="9723" y="14362"/>
                </a:cubicBezTo>
                <a:cubicBezTo>
                  <a:pt x="10060" y="14359"/>
                  <a:pt x="10525" y="14433"/>
                  <a:pt x="10840" y="14387"/>
                </a:cubicBezTo>
                <a:cubicBezTo>
                  <a:pt x="10879" y="14381"/>
                  <a:pt x="10853" y="14376"/>
                  <a:pt x="10889" y="14362"/>
                </a:cubicBezTo>
              </a:path>
              <a:path w="4416" h="3573">
                <a:moveTo>
                  <a:pt x="9798" y="14536"/>
                </a:moveTo>
                <a:cubicBezTo>
                  <a:pt x="9736" y="14546"/>
                  <a:pt x="9687" y="14560"/>
                  <a:pt x="9624" y="14560"/>
                </a:cubicBezTo>
                <a:cubicBezTo>
                  <a:pt x="9532" y="14560"/>
                  <a:pt x="9531" y="14720"/>
                  <a:pt x="9525" y="14784"/>
                </a:cubicBezTo>
                <a:cubicBezTo>
                  <a:pt x="9641" y="14764"/>
                  <a:pt x="9729" y="14733"/>
                  <a:pt x="9798" y="14858"/>
                </a:cubicBezTo>
                <a:cubicBezTo>
                  <a:pt x="9874" y="14995"/>
                  <a:pt x="9580" y="14995"/>
                  <a:pt x="9525" y="14982"/>
                </a:cubicBezTo>
                <a:cubicBezTo>
                  <a:pt x="9517" y="14974"/>
                  <a:pt x="9508" y="14965"/>
                  <a:pt x="9500" y="14957"/>
                </a:cubicBezTo>
              </a:path>
              <a:path w="4416" h="3573">
                <a:moveTo>
                  <a:pt x="10145" y="14560"/>
                </a:moveTo>
                <a:cubicBezTo>
                  <a:pt x="10062" y="14665"/>
                  <a:pt x="9997" y="14771"/>
                  <a:pt x="10071" y="14908"/>
                </a:cubicBezTo>
                <a:cubicBezTo>
                  <a:pt x="10087" y="14924"/>
                  <a:pt x="10104" y="14941"/>
                  <a:pt x="10120" y="14957"/>
                </a:cubicBezTo>
                <a:cubicBezTo>
                  <a:pt x="10213" y="14885"/>
                  <a:pt x="10399" y="14696"/>
                  <a:pt x="10244" y="14560"/>
                </a:cubicBezTo>
                <a:cubicBezTo>
                  <a:pt x="10211" y="14552"/>
                  <a:pt x="10178" y="14544"/>
                  <a:pt x="10145" y="14536"/>
                </a:cubicBezTo>
              </a:path>
              <a:path w="4416" h="3573">
                <a:moveTo>
                  <a:pt x="6697" y="14412"/>
                </a:moveTo>
                <a:cubicBezTo>
                  <a:pt x="7012" y="14412"/>
                  <a:pt x="7326" y="14368"/>
                  <a:pt x="7640" y="14337"/>
                </a:cubicBezTo>
                <a:cubicBezTo>
                  <a:pt x="7757" y="14325"/>
                  <a:pt x="8025" y="14325"/>
                  <a:pt x="7913" y="14362"/>
                </a:cubicBezTo>
              </a:path>
              <a:path w="4416" h="3573">
                <a:moveTo>
                  <a:pt x="7045" y="14461"/>
                </a:moveTo>
                <a:cubicBezTo>
                  <a:pt x="6904" y="14517"/>
                  <a:pt x="6981" y="14532"/>
                  <a:pt x="6896" y="14660"/>
                </a:cubicBezTo>
                <a:cubicBezTo>
                  <a:pt x="6857" y="14698"/>
                  <a:pt x="6840" y="14700"/>
                  <a:pt x="6846" y="14734"/>
                </a:cubicBezTo>
                <a:cubicBezTo>
                  <a:pt x="6989" y="14720"/>
                  <a:pt x="7061" y="14702"/>
                  <a:pt x="7193" y="14759"/>
                </a:cubicBezTo>
                <a:cubicBezTo>
                  <a:pt x="7123" y="14862"/>
                  <a:pt x="6960" y="15101"/>
                  <a:pt x="6796" y="14982"/>
                </a:cubicBezTo>
                <a:cubicBezTo>
                  <a:pt x="6764" y="14882"/>
                  <a:pt x="6777" y="14840"/>
                  <a:pt x="6896" y="14808"/>
                </a:cubicBezTo>
              </a:path>
              <a:path w="4416" h="3573">
                <a:moveTo>
                  <a:pt x="7392" y="14610"/>
                </a:moveTo>
                <a:cubicBezTo>
                  <a:pt x="7366" y="14775"/>
                  <a:pt x="7328" y="14891"/>
                  <a:pt x="7367" y="15056"/>
                </a:cubicBezTo>
                <a:cubicBezTo>
                  <a:pt x="7479" y="14994"/>
                  <a:pt x="7742" y="14732"/>
                  <a:pt x="7491" y="14610"/>
                </a:cubicBezTo>
                <a:cubicBezTo>
                  <a:pt x="7366" y="14610"/>
                  <a:pt x="7338" y="14618"/>
                  <a:pt x="7268" y="14585"/>
                </a:cubicBezTo>
              </a:path>
              <a:path w="4416" h="3573">
                <a:moveTo>
                  <a:pt x="9798" y="13692"/>
                </a:moveTo>
                <a:cubicBezTo>
                  <a:pt x="9798" y="13950"/>
                  <a:pt x="9768" y="14229"/>
                  <a:pt x="9748" y="14486"/>
                </a:cubicBezTo>
                <a:cubicBezTo>
                  <a:pt x="9716" y="14900"/>
                  <a:pt x="9684" y="14988"/>
                  <a:pt x="9748" y="14486"/>
                </a:cubicBezTo>
                <a:cubicBezTo>
                  <a:pt x="9785" y="14200"/>
                  <a:pt x="9823" y="13931"/>
                  <a:pt x="9823" y="13643"/>
                </a:cubicBezTo>
                <a:cubicBezTo>
                  <a:pt x="9823" y="13577"/>
                  <a:pt x="9823" y="13725"/>
                  <a:pt x="9823" y="13791"/>
                </a:cubicBezTo>
                <a:cubicBezTo>
                  <a:pt x="9786" y="14181"/>
                  <a:pt x="9726" y="14567"/>
                  <a:pt x="9699" y="14957"/>
                </a:cubicBezTo>
                <a:cubicBezTo>
                  <a:pt x="9699" y="14949"/>
                  <a:pt x="9699" y="14940"/>
                  <a:pt x="9699" y="14932"/>
                </a:cubicBezTo>
                <a:cubicBezTo>
                  <a:pt x="9751" y="14562"/>
                  <a:pt x="9778" y="14187"/>
                  <a:pt x="9823" y="13816"/>
                </a:cubicBezTo>
                <a:cubicBezTo>
                  <a:pt x="9849" y="13601"/>
                  <a:pt x="9875" y="13948"/>
                  <a:pt x="9847" y="14163"/>
                </a:cubicBezTo>
                <a:cubicBezTo>
                  <a:pt x="9812" y="14429"/>
                  <a:pt x="9751" y="14694"/>
                  <a:pt x="9699" y="14957"/>
                </a:cubicBezTo>
                <a:cubicBezTo>
                  <a:pt x="9735" y="14700"/>
                  <a:pt x="9812" y="14376"/>
                  <a:pt x="9872" y="14114"/>
                </a:cubicBezTo>
                <a:cubicBezTo>
                  <a:pt x="9892" y="14028"/>
                  <a:pt x="10021" y="13463"/>
                  <a:pt x="9971" y="13915"/>
                </a:cubicBezTo>
                <a:cubicBezTo>
                  <a:pt x="9942" y="14176"/>
                  <a:pt x="9752" y="14534"/>
                  <a:pt x="9773" y="14784"/>
                </a:cubicBezTo>
                <a:cubicBezTo>
                  <a:pt x="9781" y="14784"/>
                  <a:pt x="9790" y="14784"/>
                  <a:pt x="9798" y="14784"/>
                </a:cubicBezTo>
              </a:path>
              <a:path w="4416" h="3573">
                <a:moveTo>
                  <a:pt x="9575" y="15875"/>
                </a:moveTo>
                <a:cubicBezTo>
                  <a:pt x="9659" y="16069"/>
                  <a:pt x="9563" y="16302"/>
                  <a:pt x="9649" y="16495"/>
                </a:cubicBezTo>
                <a:cubicBezTo>
                  <a:pt x="9761" y="16746"/>
                  <a:pt x="9945" y="16103"/>
                  <a:pt x="9947" y="16098"/>
                </a:cubicBezTo>
                <a:cubicBezTo>
                  <a:pt x="9955" y="16065"/>
                  <a:pt x="9963" y="16032"/>
                  <a:pt x="9971" y="15999"/>
                </a:cubicBezTo>
                <a:cubicBezTo>
                  <a:pt x="9971" y="16120"/>
                  <a:pt x="9950" y="16386"/>
                  <a:pt x="10145" y="16396"/>
                </a:cubicBezTo>
                <a:cubicBezTo>
                  <a:pt x="10360" y="16407"/>
                  <a:pt x="10503" y="15918"/>
                  <a:pt x="10344" y="15801"/>
                </a:cubicBezTo>
                <a:cubicBezTo>
                  <a:pt x="10209" y="15827"/>
                  <a:pt x="10159" y="15842"/>
                  <a:pt x="10096" y="15925"/>
                </a:cubicBezTo>
              </a:path>
              <a:path w="4416" h="3573">
                <a:moveTo>
                  <a:pt x="6995" y="14511"/>
                </a:moveTo>
                <a:cubicBezTo>
                  <a:pt x="7018" y="14580"/>
                  <a:pt x="7132" y="14521"/>
                  <a:pt x="7193" y="14511"/>
                </a:cubicBezTo>
                <a:cubicBezTo>
                  <a:pt x="7234" y="14504"/>
                  <a:pt x="7233" y="14506"/>
                  <a:pt x="7243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01920" y="5607000"/>
            <a:ext cx="1482840" cy="590760"/>
          </a:xfrm>
          <a:custGeom>
            <a:avLst/>
            <a:gdLst/>
            <a:ahLst/>
            <a:rect l="l" t="t" r="r" b="b"/>
            <a:pathLst>
              <a:path w="4119" h="1638">
                <a:moveTo>
                  <a:pt x="7268" y="15925"/>
                </a:moveTo>
                <a:cubicBezTo>
                  <a:pt x="7214" y="16003"/>
                  <a:pt x="7373" y="15832"/>
                  <a:pt x="7441" y="15850"/>
                </a:cubicBezTo>
                <a:cubicBezTo>
                  <a:pt x="7703" y="15918"/>
                  <a:pt x="7458" y="16176"/>
                  <a:pt x="7367" y="16247"/>
                </a:cubicBezTo>
                <a:cubicBezTo>
                  <a:pt x="7326" y="16267"/>
                  <a:pt x="7310" y="16286"/>
                  <a:pt x="7317" y="16247"/>
                </a:cubicBezTo>
                <a:cubicBezTo>
                  <a:pt x="7357" y="16180"/>
                  <a:pt x="7473" y="16118"/>
                  <a:pt x="7541" y="16222"/>
                </a:cubicBezTo>
                <a:cubicBezTo>
                  <a:pt x="7670" y="16419"/>
                  <a:pt x="7447" y="16547"/>
                  <a:pt x="7293" y="16570"/>
                </a:cubicBezTo>
                <a:cubicBezTo>
                  <a:pt x="7219" y="16581"/>
                  <a:pt x="7061" y="16567"/>
                  <a:pt x="7119" y="16520"/>
                </a:cubicBezTo>
                <a:cubicBezTo>
                  <a:pt x="7127" y="16520"/>
                  <a:pt x="7136" y="16520"/>
                  <a:pt x="7144" y="16520"/>
                </a:cubicBezTo>
              </a:path>
              <a:path w="4119" h="1638">
                <a:moveTo>
                  <a:pt x="7863" y="16321"/>
                </a:moveTo>
                <a:cubicBezTo>
                  <a:pt x="7876" y="16441"/>
                  <a:pt x="7863" y="16547"/>
                  <a:pt x="7863" y="16669"/>
                </a:cubicBezTo>
                <a:cubicBezTo>
                  <a:pt x="7883" y="16550"/>
                  <a:pt x="7905" y="16430"/>
                  <a:pt x="7962" y="16321"/>
                </a:cubicBezTo>
                <a:cubicBezTo>
                  <a:pt x="8044" y="16163"/>
                  <a:pt x="8178" y="16567"/>
                  <a:pt x="8186" y="16594"/>
                </a:cubicBezTo>
                <a:cubicBezTo>
                  <a:pt x="8186" y="16645"/>
                  <a:pt x="8165" y="16465"/>
                  <a:pt x="8186" y="16421"/>
                </a:cubicBezTo>
                <a:cubicBezTo>
                  <a:pt x="8277" y="16230"/>
                  <a:pt x="8385" y="16503"/>
                  <a:pt x="8409" y="16570"/>
                </a:cubicBezTo>
                <a:cubicBezTo>
                  <a:pt x="8431" y="16635"/>
                  <a:pt x="8439" y="16650"/>
                  <a:pt x="8434" y="16694"/>
                </a:cubicBezTo>
              </a:path>
              <a:path w="4119" h="1638">
                <a:moveTo>
                  <a:pt x="6722" y="15751"/>
                </a:moveTo>
                <a:cubicBezTo>
                  <a:pt x="6743" y="15909"/>
                  <a:pt x="6746" y="16014"/>
                  <a:pt x="6747" y="16173"/>
                </a:cubicBezTo>
                <a:cubicBezTo>
                  <a:pt x="6750" y="16500"/>
                  <a:pt x="6652" y="16844"/>
                  <a:pt x="6672" y="17165"/>
                </a:cubicBezTo>
                <a:cubicBezTo>
                  <a:pt x="6680" y="17181"/>
                  <a:pt x="6689" y="17198"/>
                  <a:pt x="6697" y="17214"/>
                </a:cubicBezTo>
                <a:cubicBezTo>
                  <a:pt x="7025" y="17141"/>
                  <a:pt x="7351" y="17058"/>
                  <a:pt x="7689" y="17041"/>
                </a:cubicBezTo>
                <a:cubicBezTo>
                  <a:pt x="8278" y="17012"/>
                  <a:pt x="8865" y="17121"/>
                  <a:pt x="9451" y="17165"/>
                </a:cubicBezTo>
                <a:cubicBezTo>
                  <a:pt x="9665" y="17181"/>
                  <a:pt x="10225" y="17303"/>
                  <a:pt x="10418" y="17165"/>
                </a:cubicBezTo>
                <a:cubicBezTo>
                  <a:pt x="10492" y="17112"/>
                  <a:pt x="10561" y="16787"/>
                  <a:pt x="10592" y="16694"/>
                </a:cubicBezTo>
                <a:cubicBezTo>
                  <a:pt x="10710" y="16335"/>
                  <a:pt x="10790" y="16028"/>
                  <a:pt x="10790" y="15652"/>
                </a:cubicBezTo>
                <a:cubicBezTo>
                  <a:pt x="10790" y="15644"/>
                  <a:pt x="10790" y="15635"/>
                  <a:pt x="10790" y="15627"/>
                </a:cubicBezTo>
                <a:cubicBezTo>
                  <a:pt x="10535" y="15650"/>
                  <a:pt x="10304" y="15645"/>
                  <a:pt x="10046" y="15627"/>
                </a:cubicBezTo>
                <a:cubicBezTo>
                  <a:pt x="9648" y="15599"/>
                  <a:pt x="9276" y="15567"/>
                  <a:pt x="8880" y="15627"/>
                </a:cubicBezTo>
                <a:cubicBezTo>
                  <a:pt x="8731" y="15649"/>
                  <a:pt x="8609" y="15677"/>
                  <a:pt x="8458" y="15677"/>
                </a:cubicBezTo>
                <a:cubicBezTo>
                  <a:pt x="8203" y="15677"/>
                  <a:pt x="7943" y="15722"/>
                  <a:pt x="7689" y="15751"/>
                </a:cubicBezTo>
                <a:cubicBezTo>
                  <a:pt x="7456" y="15778"/>
                  <a:pt x="7249" y="15768"/>
                  <a:pt x="7020" y="15751"/>
                </a:cubicBezTo>
                <a:cubicBezTo>
                  <a:pt x="6954" y="15746"/>
                  <a:pt x="6937" y="15751"/>
                  <a:pt x="6871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70880" y="3581280"/>
            <a:ext cx="108000" cy="7920"/>
          </a:xfrm>
          <a:custGeom>
            <a:avLst/>
            <a:gdLst/>
            <a:ahLst/>
            <a:rect l="l" t="t" r="r" b="b"/>
            <a:pathLst>
              <a:path w="299" h="25">
                <a:moveTo>
                  <a:pt x="21307" y="9971"/>
                </a:moveTo>
                <a:cubicBezTo>
                  <a:pt x="21437" y="9939"/>
                  <a:pt x="21503" y="9931"/>
                  <a:pt x="21605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5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W 14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9:41Z</dcterms:created>
  <dc:creator>TAMMY  COON</dc:creator>
  <dc:description/>
  <dc:language>en-US</dc:language>
  <cp:lastModifiedBy>demcgra</cp:lastModifiedBy>
  <dcterms:modified xsi:type="dcterms:W3CDTF">2012-02-23T16:27:00Z</dcterms:modified>
  <cp:revision>10</cp:revision>
  <dc:subject/>
  <dc:title>Unit 7: Measurement</dc:title>
</cp:coreProperties>
</file>